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9B8-BB5C-4381-A898-613580B8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809-9CA8-4D1B-BEAF-47EC75B7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ABC-F3DC-4FF7-8836-DBBCB7BF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4FB-0840-48AB-AEF1-2976162B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1F3-D048-4480-BF9D-B035B1CF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499-F0D4-43E3-A94C-823796D6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235-F886-4709-B7AC-1C5618E2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863-5AC1-46F4-BA28-1C0709AA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256-04FE-4B92-91EB-1D326D1E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E8F-4FDE-4411-AB65-B19791D0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099-EF66-4192-8895-98FEA67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314-4FFD-40B5-AE53-0BA98930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ACA1-61F3-4067-851C-C59AC90D0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1560" y="57456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002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DSA per TUTTI  TUTTI per I D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Breno 29 ottobre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48320"/>
            <a:ext cx="9144000" cy="247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80"/>
                </a:solidFill>
                <a:latin typeface="Comic Sans MS"/>
              </a:rPr>
              <a:t>Stesura del Piano Didattico Personalizz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80"/>
                </a:solidFill>
                <a:latin typeface="Comic Sans MS"/>
              </a:rPr>
              <a:t>Scuola primaria e seco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80"/>
                </a:solidFill>
                <a:latin typeface="Comic Sans MS"/>
              </a:rPr>
              <a:t>Dott.ssa Erminia Botturi – Pedagog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71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1676520" cy="3751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1066680"/>
            <a:ext cx="1600200" cy="411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2916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l_fi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676520" y="1219320"/>
            <a:ext cx="586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0484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2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60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 la personalizz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vogliono raggiungere 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desimi obiettivi attraverso itinerari diver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o’ implica la messa a punto di nuove forme di organizzazione didattica e la trasmissione del “sapere” e “del saper fare” in modo da predispor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iani di apprendimento coerenti con le capacità, i ritmi e i tempi di sviluppo degli alu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G. Chiosso, La personalizzazione dell’apprendi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associazione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3530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071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CHÉ compilare il PD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ché permette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pensare alla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flette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ll’importanza dell’osserv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istematica d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 di apprendimento dell’alu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divide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a responsabilità educativa con la fami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vorire 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zione effica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ra diversi ordin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u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 decidere e/o modificare strate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dat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oltre è un atto dovut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EN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disturbo specifico di apprendi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’ UN DATO SENSIBILE, quindi coperto da priv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tanto non si può parlarne se non si è autorizzati dai genitori, i quali non sono obbligati a consegnare a scuola la dichiarazione dello specialista. Se non lo fanno, però, l’allievo non può essere considerato dislessico, ma solo affetto da difficoltà di appr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rivacy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25905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i lo redig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team dei docenti o il consiglio di clas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acquisita la diagnosi specialistica di DSA, redige il Piano Didattico Personalizzato. La redazione del documento preved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na fase preparator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’incontro e di dialog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ra docenti, famiglia e specialis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l rispetto dei reciproci ruoli e competen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scuole, nell’ambito dell’autonomia (D.P.R. 8 marzo 1999 n. 275), e gli insegnanti, nell’ambito della libertà di insegnamento garantita dalla Costituzione, sono liberi nell’individuazione de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odalità di insegnamento piu’ idonee a corrispondere alle necessità di ciascun allievo, compresi gli strumenti compensativi e dispensativi per gli allievi con D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lavoro_di_squadra" descr=""/>
          <p:cNvPicPr/>
          <p:nvPr/>
        </p:nvPicPr>
        <p:blipFill>
          <a:blip r:embed="rId1"/>
          <a:srcRect l="0" t="0" r="0" b="41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7157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gni istituzione scolastica Inserisce il modello   prescelto del PDP (modello AID, MIUR, altro) nel Piano dell’Offerta Formativa (P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PER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quisizione della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gnalazione specialistica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ontro di presentazione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: coordinatore classe, famiglia, Dirigente Scolastico e/o referente DSA per la raccolta delle informazioni (con verbalizz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cordo tra i doc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er la sua predisposizione e per la distribuzione della modulistica da compil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esura finale e sottoscrizione del docu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docenti e genitori dello studente). Il PDP deve essere monitorato 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ue o piu’ volte l’anno a cura del team dei docenti o del Consiglio di Classe ( per es. in sede di scrutini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134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IANO DIDATTICO EFFICA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Dovrebbe essere in grado di modificare i comportamenti e i procedimenti attivati a casa e a scuola da parte degli insegnanti e, per quanto di competenza, dei genito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c0000"/>
                </a:solidFill>
                <a:uFillTx/>
                <a:latin typeface="Arial"/>
              </a:rPr>
              <a:t>Deve contenere indica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400" spc="-1" strike="noStrike" u="sng">
                <a:solidFill>
                  <a:srgbClr val="cc0000"/>
                </a:solidFill>
                <a:uFillTx/>
                <a:latin typeface="Arial"/>
              </a:rPr>
              <a:t>Significati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necessarie per determinare  un cambi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400" spc="-1" strike="noStrike" u="sng">
                <a:solidFill>
                  <a:srgbClr val="cc0000"/>
                </a:solidFill>
                <a:uFillTx/>
                <a:latin typeface="Arial"/>
              </a:rPr>
              <a:t>Realisti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considerare attentamente i vincoli, evitando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re promesse che non si possono mantenere o preved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tazioni che l’alunno non sarà mai in grado di comp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400" spc="-1" strike="noStrike" u="sng">
                <a:solidFill>
                  <a:srgbClr val="cc0000"/>
                </a:solidFill>
                <a:uFillTx/>
                <a:latin typeface="Arial"/>
              </a:rPr>
              <a:t>Coerenti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evitare contraddizioni interne e/o palesi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giustificate difformità tra le varie discipline o attività (risc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iù frequ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400" spc="-1" strike="noStrike" u="sng">
                <a:solidFill>
                  <a:srgbClr val="cc0000"/>
                </a:solidFill>
                <a:uFillTx/>
                <a:latin typeface="Arial"/>
              </a:rPr>
              <a:t>Concrete e verificabi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no ad affermazioni vagh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iche, interpretabili a piacere (es.: strumenti compens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dispensativi man mano adatti allo scop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j0115834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84" name="j0115834" descr=""/>
          <p:cNvPicPr/>
          <p:nvPr/>
        </p:nvPicPr>
        <p:blipFill>
          <a:blip r:embed="rId2"/>
          <a:stretch/>
        </p:blipFill>
        <p:spPr>
          <a:xfrm>
            <a:off x="152280" y="594360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85" name="j0115834" descr=""/>
          <p:cNvPicPr/>
          <p:nvPr/>
        </p:nvPicPr>
        <p:blipFill>
          <a:blip r:embed="rId3"/>
          <a:stretch/>
        </p:blipFill>
        <p:spPr>
          <a:xfrm>
            <a:off x="152280" y="4724280"/>
            <a:ext cx="171720" cy="171720"/>
          </a:xfrm>
          <a:prstGeom prst="rect">
            <a:avLst/>
          </a:prstGeom>
          <a:ln w="0">
            <a:noFill/>
          </a:ln>
        </p:spPr>
      </p:pic>
      <p:pic>
        <p:nvPicPr>
          <p:cNvPr id="86" name="j0115834" descr=""/>
          <p:cNvPicPr/>
          <p:nvPr/>
        </p:nvPicPr>
        <p:blipFill>
          <a:blip r:embed="rId4"/>
          <a:stretch/>
        </p:blipFill>
        <p:spPr>
          <a:xfrm>
            <a:off x="152280" y="3352680"/>
            <a:ext cx="17172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7347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ferimento: modello ADI (in www.dislessia.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e viene redat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 Dati relativi all’alun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 Descrizione del funzionamento delle abilità strument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. Caratteristiche del processo di apprendi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4. Strategie per lo studio – strumenti utilizz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. Individuazione di eventuali modifiche all’interno degli obiettivi disciplinari per il conseguimento delle competenze fondame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6. Strategie metodologiche e didattiche utilizzab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7. Strumenti compensativi e misure dispensative e facilit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8. Criteri e modalità di verifica e valut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9. Assegnazione compiti a casa, rapporti con la famiglia (pat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153280" y="30492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7503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I RELATIVI ALL’ALUN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l riquadro relativo a questa voce si devono riporta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•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dati dell’alunno integrati e completati con le indica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di chi ha redatto la segnalazi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della famigl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del lavoro di osservazione condotto a scuol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specifiche difficolta’ individuate che l’allievo pres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suoi punti di for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odello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Arial"/>
                <a:ea typeface="Arial"/>
              </a:rPr>
              <a:t>PIANO DIDATTICO PERSONALIZZ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nno Scolastico 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Scuola prim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 classe……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e DSA o coordinatore di classe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DATI  RELATIVI  ALL’ALUNN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gnome e n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ata e luogo di nasc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agnosi specialist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datta da  ……………  presso ……………..in data  ………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terventi riabilitativi 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ffettuati da………..con frequenza …………Nei giorni ……… con orario 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pecialista/i di riferimento……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ventuali raccordi fra specialisti ed insegnan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formazioni dalla famigl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spetti emotivo- affettivo- motivazional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Relazionalita’: sa relazionarsi/ interagire, partecipa agli scambi comunicativi -  approccio  agli  impegni  scolastici:   autonomo,  necessita di azioni di supporto…, capacità organizzative: sa gestirsi, sa gestire il materiale  scolastico, sa organizzare un piano di lavoro …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nsapevolezza delle proprie difficoltà: ne parla, le accetta, elude il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roblema …)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ratteristiche percorso didattico pregr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ltre osservazioni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levazione delle specifiche difficolta’ e punti di forz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861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5791320" y="0"/>
            <a:ext cx="571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835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gge 170/2010,  Linee Guida,  Decreto attuativo (DM 5669 luglio  20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Obbligo di redigere annualmente per gli alunni D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il Piano Didattico Personalizz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t. 5 Decreto Ministe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La scuola garantisce ed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esplicita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ei confronti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i alunni e studenti con DSA, interventi didattici individualizzati e personalizzati, anche attraverso la redazione di un Piano didattico Personalizzato, con l’indicazione degli strumenti compensativi e delle misure dispensative adot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egge" descr=""/>
          <p:cNvPicPr/>
          <p:nvPr/>
        </p:nvPicPr>
        <p:blipFill>
          <a:blip r:embed="rId1"/>
          <a:stretch/>
        </p:blipFill>
        <p:spPr>
          <a:xfrm>
            <a:off x="3581280" y="152280"/>
            <a:ext cx="198144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odello A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Arial"/>
                <a:ea typeface="Arial"/>
              </a:rPr>
              <a:t>PIANO DIDATTICO PERSONALIZZ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nno Scolastico 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Scuola second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dirizzo di studio……………………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lasse………..                                                 Sezione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e DSA o coordinatore di classe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ATI  RELATIVI  ALL’ALUN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gnome e n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ata e luogo di nasc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agnosi speciali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datta da  ……………  presso …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data  ………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pecialista/i di riferimento : ……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ventuali raccordi fra specialisti ed insegnanti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formazioni dalla famigl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ratteristiche percorso didattico pregr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ltre osservazion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levazione delle specifiche difficolta’ e punti di forz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861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153280" y="30492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l_fi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2471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ni alunno con diagnosi di DSA è un caso a sé, non assimilabile ad altri</a:t>
            </a: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e caratteristi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culiari, sia per quanto riguarda i punti di forza che di debolezza, sia per le modalità successive da mettere in atto nell’intervento a scu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0320"/>
            <a:ext cx="4572000" cy="618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1858f"/>
                </a:solidFill>
                <a:latin typeface="Wingdings"/>
                <a:ea typeface="Wingdings"/>
              </a:rPr>
              <a:t></a:t>
            </a:r>
            <a:r>
              <a:rPr b="1" lang="it-IT" sz="2000" spc="-1" strike="noStrike">
                <a:solidFill>
                  <a:srgbClr val="51858f"/>
                </a:solidFill>
                <a:latin typeface="Arial"/>
              </a:rPr>
              <a:t>PUNTI DI FOR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pacità cognitiva n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Processi di astrazione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generalizzazione integ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1858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pacità di problem sol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1858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Capacità di sfruttare i rinfor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visivi e udi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1858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pacità di sint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Capacità di concentr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3080" y="4038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838080"/>
            <a:ext cx="4572000" cy="5997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77ab2"/>
                </a:solidFill>
                <a:latin typeface="Arial"/>
              </a:rPr>
              <a:t>PUNTI DEBOLEZZA</a:t>
            </a:r>
            <a:r>
              <a:rPr b="0" lang="it-IT" sz="2400" spc="-1" strike="noStrike">
                <a:solidFill>
                  <a:srgbClr val="477ab2"/>
                </a:solidFill>
                <a:latin typeface="Wingdings"/>
                <a:ea typeface="Wingdings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Difficoltà specifiche degli apprendiment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prensione del testo (se l’aspetto della decodifica interferisce in modo significa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Difficoltà nella memoria a breve termine (sequenziale e di lavo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fficoltà visuo-percet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Difficoltà di org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fficoltà di gestione dell’ord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Tempi di attenzione br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1038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GENERA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7528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SCRIZIONE DEL FUNZIONAMENTO DELLE ABIL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MENT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elle diverse materie o nei diversi ambiti di studio vann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ati gli effettivi livelli di apprendi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che devono essere rilevati con le modalità più idonee a valorizzare le effettive competenze dell’allievo superando le sue specifiche difficoltà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avere informazioni specifiche sul livello di acquisizione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utomatizzazione abilità strumentali (lettura, scrittura, calco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import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lizzare processi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onitoraggi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’apprendimento strumentale con adeguat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menti di verifica e osservazio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tente per ottenere informazioni specif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ava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che informazioni dalla diagnos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pecialis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SY01265_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8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0226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0"/>
          <a:ext cx="9144000" cy="7457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elocità correttezza comprensi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serv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it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ipologia di errori, grafia, produzione testi: ideazione, stesura, revisi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o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lcolo a mente e scrit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disturbi associ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2861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2133720" y="228600"/>
            <a:ext cx="571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te modello AID scuola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-  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  <a:ea typeface="Arial"/>
              </a:rPr>
              <a:t>Diagnosi special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 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rove standardizzate e/o semistrutt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  <a:ea typeface="Arial"/>
              </a:rPr>
              <a:t>Osservazione libera o sistematica (lettura subvocalica, seg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  <a:ea typeface="Arial"/>
              </a:rPr>
              <a:t>con il dito,  tempo impiegato in relazione alla media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  <a:ea typeface="Arial"/>
              </a:rPr>
              <a:t>classe nella lettura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chede di autovalutazione (come leggo … come scrivo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me studi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  <a:ea typeface="Arial"/>
              </a:rPr>
              <a:t>Livelli di competenza nella lettura e scrit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mprensione dei messaggi orali e scri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- 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  <a:ea typeface="Arial"/>
              </a:rPr>
              <a:t>Comprensione di tipologie di testi (comprensione letteral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  <a:ea typeface="Arial"/>
              </a:rPr>
              <a:t>inferenziale, costruttiva, interpretativa, analitica, valuta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mpetenza linguistica (fonologica, lessicale, morfologic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intat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- Leggere e scrivere correttamente i numeri, imparare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tabelline, eseguire calcoli scritti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7924680" y="45720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701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te modello AID scuola seco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2400" spc="-1" strike="noStrike">
                <a:solidFill>
                  <a:srgbClr val="0000cc"/>
                </a:solidFill>
                <a:latin typeface="Arial"/>
                <a:ea typeface="Arial"/>
              </a:rPr>
              <a:t>- Informazioni da diagnosi specialistic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sservazione libera e sistematica (tempo impiegato i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elazione alla media della classe nella esecuzione d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mpiti,...).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0" i="1" lang="it-IT" sz="2400" spc="-1" strike="noStrike">
                <a:solidFill>
                  <a:srgbClr val="0000cc"/>
                </a:solidFill>
                <a:latin typeface="Arial"/>
                <a:ea typeface="Arial"/>
              </a:rPr>
              <a:t>Livelli di competenza nella lettura e scrit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mprensione di tipologie di testi (comprensione lettera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ferenziale, costruttiva, interpretativa, analitica, valuta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it-IT" sz="2400" spc="-1" strike="noStrike">
                <a:solidFill>
                  <a:srgbClr val="0000cc"/>
                </a:solidFill>
                <a:latin typeface="Arial"/>
                <a:ea typeface="Arial"/>
              </a:rPr>
              <a:t>Competenza linguistica (sintattica, grammaticale, lessic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it-IT" sz="2400" spc="-1" strike="noStrike">
                <a:solidFill>
                  <a:srgbClr val="0000cc"/>
                </a:solidFill>
                <a:latin typeface="Arial"/>
                <a:ea typeface="Arial"/>
              </a:rPr>
              <a:t>ortograf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apacita’ di comprensione e produzione dei numeri, capac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i incolonnarli correttamente, abilità di ragion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ritmetico,  assimilazione e automatizzazione dei fatti numeric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153280" y="53352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7084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33300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ello AID sc. secondaria: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“Caratteristiche comportamental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Arial"/>
              </a:rPr>
              <a:t>Collaborazione e partecipazione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(</a:t>
            </a:r>
            <a:r>
              <a:rPr b="0" i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partecipa agli scambi comunicativi e al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  </a:t>
            </a:r>
            <a:r>
              <a:rPr b="0" i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conversazioni collettive; collabora nel gruppo di lavoro scolastico,…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elazionalità con compagni/adult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 relazionarsi, interagire,….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Arial"/>
              </a:rPr>
              <a:t>Frequenza scolast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ccettazione e rispetto delle reg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Arial"/>
              </a:rPr>
              <a:t>Motivazione al lavoro scolastic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apacità organizzati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gestire materiale scolastico, organizzare piano lavoro,…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Arial"/>
              </a:rPr>
              <a:t>Rispetto degli impegni e delle responsabi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nsapevolezza delle proprie difficolt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arla delle sue difficoltà, le accetta, elude 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roblema …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Arial"/>
              </a:rPr>
              <a:t>Senso di autoefficacia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(percezione soggettiva di riuscire ad affrontare gli impeg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     </a:t>
            </a:r>
            <a:r>
              <a:rPr b="0" i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scolastici con successo e fiducia nelle proprie possibilità di imparare)</a:t>
            </a:r>
            <a:r>
              <a:rPr b="1" i="1" lang="it-IT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utovalutazione delle proprie abilita’  e potenzialita’ nelle diverse disciplin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305920" y="114300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118" name="AID carta int proposte" descr=""/>
          <p:cNvPicPr/>
          <p:nvPr/>
        </p:nvPicPr>
        <p:blipFill>
          <a:blip r:embed="rId2"/>
          <a:srcRect l="2259" t="0" r="72157" b="0"/>
          <a:stretch/>
        </p:blipFill>
        <p:spPr>
          <a:xfrm>
            <a:off x="8305920" y="114300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119" name="AID carta int proposte" descr=""/>
          <p:cNvPicPr/>
          <p:nvPr/>
        </p:nvPicPr>
        <p:blipFill>
          <a:blip r:embed="rId3"/>
          <a:srcRect l="2259" t="0" r="72157" b="0"/>
          <a:stretch/>
        </p:blipFill>
        <p:spPr>
          <a:xfrm>
            <a:off x="8305920" y="114300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120" name="AID carta int proposte" descr=""/>
          <p:cNvPicPr/>
          <p:nvPr/>
        </p:nvPicPr>
        <p:blipFill>
          <a:blip r:embed="rId4"/>
          <a:srcRect l="2259" t="0" r="72157" b="0"/>
          <a:stretch/>
        </p:blipFill>
        <p:spPr>
          <a:xfrm>
            <a:off x="8305920" y="1143000"/>
            <a:ext cx="571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RATTERISTICHE DEL PROCESSO DI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Informazioni ricavabili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colloquio con i genitori  -  osservazioni dei doc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e diverse materie o nei diversi ambiti di studio vanno individuati gli effettivi livelli di apprendimento raggiu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Porre particolare attenzione alle strategie utilizzate dall’alunno nel suo processo di acquisizione e di studio ed effettuare osservazioni sistematiche sul modo di procedere dello studente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strategie utili devono essere incoraggiate, mentre bisogna far prendere consapevolezza di quelle disfunzion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955960" y="286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tteristiche del processo di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uola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serv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676520"/>
          <a:ext cx="9144000" cy="28335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zzazione delle proced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pero delle informazio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zazione delle informazio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1340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956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à di memorizzare procedure (filastrocche, poesie, date,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zioni, termini specifici delle discipline, formule, strut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maticali, regole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à di immagazzinare e recuperare le informazion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si, predisposizioni e abilità particolari in determinate a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a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153280" y="38088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7071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nee Guida (MIUR 2011, pag.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1" i="1" lang="it-IT" sz="2400" spc="-1" strike="noStrike">
                <a:solidFill>
                  <a:srgbClr val="cc0000"/>
                </a:solidFill>
                <a:latin typeface="Arial"/>
              </a:rPr>
              <a:t>la scuola predispone, nelle forme ritenute idonee e in tempi che non superino il primo trimestre scolastico, un documento che dovrà contenere almeno le seguenti voci, articolato per le discipline coinvolte dal disturb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ati anagrafici dell’alu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Tipologia del distur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ttività didattiche individualizz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ttività didattiche personalizz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trumenti compensativi utilizz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isure dispensative adot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Forme di verifica e valutazione personalizz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ratteristiche del processo di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cuola seco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990720"/>
          <a:ext cx="9144000" cy="5908680"/>
        </p:xfrm>
        <a:graphic>
          <a:graphicData uri="http://schemas.openxmlformats.org/drawingml/2006/table">
            <a:tbl>
              <a:tblPr/>
              <a:tblGrid>
                <a:gridCol w="4800600"/>
                <a:gridCol w="4343400"/>
              </a:tblGrid>
              <a:tr h="22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’ di memorizzare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operative nelle discipline tecnico-pratiche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ormule, strutture grammaticali, regole che governano la lingua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acità di immagazzinare e recuperare  le informazion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, definizioni, termini specifici delle discipline,…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acità di organizzare le informazioni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zione di piu’ informazioni ed elaborazione di  concetti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077320" y="152280"/>
            <a:ext cx="571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988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ATEGIE E STRUMENTI UTILIZZATI DALL’ALUNNO NELLO 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formazioni ricavabili da osservazioni effettuate dagli inseg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care quali vengono utilizz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Ricorda: ogni alunno con DSA è diverso dagli altri, con su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caratteristiche peculiari</a:t>
            </a:r>
            <a:r>
              <a:rPr b="1" i="1" lang="it-IT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70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e utilizzate  dall’alunno nello studi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(scuola pri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e utilizza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sottolinea, identifica parole–chiave, fa schemi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odalità di affrontare il testo scrit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computer, schemi, corrett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rtografico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odalità di svolgimento del compito assegna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ricorre all’insegnante 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piegazioni, ad un compagno, è autonomo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iscrittura di testi con modalità grafica di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trumenti utilizz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 Strumenti informa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 Fotocopie adat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 Schemi e map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unti scritti 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 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 Registr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 Materiali multimed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 Testi con immag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 Testi con ampie spazi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229600" y="38088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70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e utilizzate  dall’alunno nello studi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(scuola second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e utilizza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sottolinea, identifica parole–chiave, costruisce schem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abelle o diagrammi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odalità di affrontare il testo scrit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computer, schemi, corretto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rtografico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odalità di svolgimento del compito assegna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è autonomo, necessita d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zioni di supporto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iscrittura di testi con modalità grafica di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Usa strategie per ricordare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uso immagini, colori, riquadrature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trumenti utilizzati dall’alunno nello 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trumenti informatic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libro digitale,programmi per realizzare grafici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Fotocopie adat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Utilizzo del  PC per scriv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egistr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esti con immag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381880" y="53352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710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DIVIDUAZIONE DI EVENTUALI MODIFICHE ALL’INTERNO DEGLI OBIETTIVI DISCIPLINARI PER IL CONSEGUIMENTO DELLE COMPETENZE FONDAME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iascuna materia o ambito di stud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ann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dividuate le abilità e le conoscenze fondamentali che l’allievo deve acquisi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ffinché sia mantenuta la validità effettiva del corso di studi, ma al contempo assicuri un volume di lavoro compatibile con le specifiche modalità di funzionamento di un allievo con D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modifiche possono riguardar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spetti margin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gli obiettivi disciplinari che non interferiscono con l’acquisizione di competenze fondamen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o:”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aper scrivere testi in modo ortograficamente corretto”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venta :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aper scrivere testi”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sì anche se non si raggiunge l’obiettivo nella sua completezza , si rende possibile il conseguimento della competenza fondamentale relativa alla scrittura: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”saper comunicar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E METODOLOGICHE E DIDATTICHE UTILIZZABILI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o di apprendere alunni DSA = stimolo per creare ambienti di apprendimento in grado di promuovere aspetti motivazionali, affettivi e relazionali, processi cognitivi e metacognitivi, base dell’apprendimento signific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La presenza di un alunno DSA in classe puo’ essere un valore aggiunto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,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un’occasione di approfondimento di metodologie didattiche che sono un vantaggio per tu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7070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MODIFICARE LA DIDATTICA PER L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ecessita’ di creare un clima della classe accogli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aticare una gestione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inclusiv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lla stessa, tenendo conto degli alunni con D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92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484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slide-33-728" descr=""/>
          <p:cNvPicPr/>
          <p:nvPr/>
        </p:nvPicPr>
        <p:blipFill>
          <a:blip r:embed="rId1"/>
          <a:srcRect l="7445" t="0" r="744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96560" cy="448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insegnanti possono essere in difficolta’ nel rispondere ai bisogni di tutti e di ciascu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Arial"/>
              </a:rPr>
              <a:t>Occorre utilizzare modalità d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Arial"/>
              </a:rPr>
              <a:t>didattica inclus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0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920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ATEGIE METODOLOGICHE E DIDATTICHE UTILIZZ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er ciascuna materia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o ambito di studio vanno individuate metodologie adatte ad assicurare l’apprendimento in relazione alle sue specifiche condi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Un’ampia varieta’ di strategie può aiutare a valorizzare i punti forti riducendo le difficolta’ (Tomlinson, 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Nell’ottica dell’inclusivita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725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490404"/>
                </a:solidFill>
                <a:uFillTx/>
                <a:latin typeface="Arial"/>
              </a:rPr>
              <a:t>STILI COGNITIVI E DI APPRENDIMENTO</a:t>
            </a:r>
            <a:r>
              <a:rPr b="0" lang="it-IT" sz="2400" spc="-1" strike="noStrike">
                <a:solidFill>
                  <a:srgbClr val="49040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0404"/>
                </a:solidFill>
                <a:latin typeface="Arial"/>
              </a:rPr>
              <a:t>(Stili su cui converge la maggior parte della lett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904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9040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490404"/>
                </a:solidFill>
                <a:latin typeface="Arial"/>
              </a:rPr>
              <a:t>Sistematico / Intuitivo</a:t>
            </a:r>
            <a:r>
              <a:rPr b="0" lang="it-IT" sz="2400" spc="-1" strike="noStrike">
                <a:solidFill>
                  <a:srgbClr val="490404"/>
                </a:solidFill>
                <a:latin typeface="Arial"/>
              </a:rPr>
              <a:t>: che si evidenzia nel formulare ipotesi,   individuare problem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90404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490404"/>
                </a:solidFill>
                <a:latin typeface="Arial"/>
              </a:rPr>
              <a:t>Globale / Analitico</a:t>
            </a:r>
            <a:r>
              <a:rPr b="0" lang="it-IT" sz="2400" spc="-1" strike="noStrike">
                <a:solidFill>
                  <a:srgbClr val="490404"/>
                </a:solidFill>
                <a:latin typeface="Arial"/>
              </a:rPr>
              <a:t>: che si evidenzia nell’esaminare ipotesi e problem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90404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490404"/>
                </a:solidFill>
                <a:latin typeface="Arial"/>
              </a:rPr>
              <a:t>Impulsivo / Riflessivo</a:t>
            </a:r>
            <a:r>
              <a:rPr b="0" lang="it-IT" sz="2400" spc="-1" strike="noStrike">
                <a:solidFill>
                  <a:srgbClr val="490404"/>
                </a:solidFill>
                <a:latin typeface="Arial"/>
              </a:rPr>
              <a:t>: che si evidenzia nel prendere decision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90404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490404"/>
                </a:solidFill>
                <a:latin typeface="Arial"/>
              </a:rPr>
              <a:t>Verbale / Visuale</a:t>
            </a:r>
            <a:r>
              <a:rPr b="0" lang="it-IT" sz="2400" spc="-1" strike="noStrike">
                <a:solidFill>
                  <a:srgbClr val="490404"/>
                </a:solidFill>
                <a:latin typeface="Arial"/>
              </a:rPr>
              <a:t>: che si evidenzia nel percepire le informazioni e nel ricordar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904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9040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490404"/>
                </a:solidFill>
                <a:latin typeface="Arial"/>
              </a:rPr>
              <a:t>Convergente / Divergente</a:t>
            </a:r>
            <a:r>
              <a:rPr b="0" lang="it-IT" sz="2400" spc="-1" strike="noStrike">
                <a:solidFill>
                  <a:srgbClr val="490404"/>
                </a:solidFill>
                <a:latin typeface="Arial"/>
              </a:rPr>
              <a:t>: che si evidenzia nel pensare; ragionare; proporre solu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904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904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UR LINEE GUIDA (CAP.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143000"/>
          <a:ext cx="9144000" cy="57308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ATTICA INDIVIDUALIZZ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ATTICA PERSONALIZZ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izzato è l’intervento calibrato sul singolo, in particolare per migliorare alcune competenze deficitarie o per potenziare l’automatizzazione di processi basilar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izzata è la didattica che offre a ciascun alunno l’opportunità di sviluppare al meglio le proprie potenzialità attraverso un lavoro in classe diversificat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DATTICA 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sieme articolato di metodologie di insegnamento che pongono  l'utente com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oggetto at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e non passivo del proprio processo di apprendi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i riferisce ad un ampio repertorio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etodologie didatti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che tenta di superare quelle modalita’ tradizionali basate sull'ascolto (per esempio la lezione frontale) o sull'osservazione ed imitazione (per esempio l'affiancamento addestrativ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lcuni esempi di didattica attiva: la simulazione operativa; l’analisi e la risoluzione di casi/problemi; il lavoro di progetto; i lavori e le esercitazioni di gruppo; il gioco psico-pedagogico; l’apprendimento cooperativo (cooperative learning); il role playinin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-171360"/>
            <a:ext cx="9144000" cy="728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L PARADIGMA</a:t>
            </a:r>
            <a:r>
              <a:rPr b="1" lang="it-IT" sz="2400" spc="-1" strike="noStrike" u="sng">
                <a:solidFill>
                  <a:srgbClr val="c0c0c0"/>
                </a:solidFill>
                <a:uFillTx/>
                <a:latin typeface="Arial"/>
                <a:ea typeface="Arial"/>
              </a:rPr>
              <a:t>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RUTTI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60093"/>
                </a:solidFill>
                <a:latin typeface="Arial"/>
                <a:ea typeface="Arial"/>
              </a:rPr>
              <a:t>Imparare significa operare una soggettiva e consapevole costruzione di significato, a partire da</a:t>
            </a:r>
            <a:r>
              <a:rPr b="1" lang="it-IT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d60093"/>
                </a:solidFill>
                <a:latin typeface="Arial"/>
                <a:ea typeface="Arial"/>
              </a:rPr>
              <a:t>una rielaborazione interna di sensazioni,</a:t>
            </a:r>
            <a:r>
              <a:rPr b="1" lang="it-IT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d60093"/>
                </a:solidFill>
                <a:latin typeface="Arial"/>
                <a:ea typeface="Arial"/>
              </a:rPr>
              <a:t>conoscenze, credenze, emo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apprendimento non e’ l'acquisizione di speci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ntenuti pre-strutturati, bensi’ l'interiorizzazione 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una metodologia d'apprendimento che rend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rogressivamente il soggetto autonomo nei propri processi conoscitiv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,Bold"/>
              </a:rPr>
              <a:t>’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PPRENDIMENTO COLLABORATIVO/COOPERATIV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alità un po</a:t>
            </a:r>
            <a:r>
              <a:rPr b="0" lang="it-IT" sz="2400" spc="-1" strike="noStrike">
                <a:solidFill>
                  <a:srgbClr val="000000"/>
                </a:solidFill>
                <a:latin typeface="Arial,Bold"/>
              </a:rPr>
              <a:t>’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a dal lavoro di gruppo, in quanto e’ focalizzato sull</a:t>
            </a:r>
            <a:r>
              <a:rPr b="0" lang="it-IT" sz="2400" spc="-1" strike="noStrike">
                <a:solidFill>
                  <a:srgbClr val="000000"/>
                </a:solidFill>
                <a:latin typeface="Arial,Bold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rendere insieme l</a:t>
            </a:r>
            <a:r>
              <a:rPr b="0" lang="it-IT" sz="2400" spc="-1" strike="noStrike">
                <a:solidFill>
                  <a:srgbClr val="000000"/>
                </a:solidFill>
                <a:latin typeface="Arial,Bold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o con l</a:t>
            </a:r>
            <a:r>
              <a:rPr b="0" lang="it-IT" sz="2400" spc="-1" strike="noStrike">
                <a:solidFill>
                  <a:srgbClr val="000000"/>
                </a:solidFill>
                <a:latin typeface="Arial,Bold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o, l</a:t>
            </a:r>
            <a:r>
              <a:rPr b="0" lang="it-IT" sz="2400" spc="-1" strike="noStrike">
                <a:solidFill>
                  <a:srgbClr val="000000"/>
                </a:solidFill>
                <a:latin typeface="Arial,Bold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o dall</a:t>
            </a:r>
            <a:r>
              <a:rPr b="0" lang="it-IT" sz="2400" spc="-1" strike="noStrike">
                <a:solidFill>
                  <a:srgbClr val="000000"/>
                </a:solidFill>
                <a:latin typeface="Arial,Bold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o, l</a:t>
            </a:r>
            <a:r>
              <a:rPr b="0" lang="it-IT" sz="2400" spc="-1" strike="noStrike">
                <a:solidFill>
                  <a:srgbClr val="000000"/>
                </a:solidFill>
                <a:latin typeface="Arial,Bold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o per l</a:t>
            </a:r>
            <a:r>
              <a:rPr b="0" lang="it-IT" sz="2400" spc="-1" strike="noStrike">
                <a:solidFill>
                  <a:srgbClr val="000000"/>
                </a:solidFill>
                <a:latin typeface="Arial,Bold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operazione = divisione del lavoro da svolg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llaborazione = si lavora insieme su tutte le parti del proget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e e due le modalita’ implicano una condivisione forte di obiettivi comuni e l</a:t>
            </a:r>
            <a:r>
              <a:rPr b="0" lang="it-IT" sz="2400" spc="-1" strike="noStrike">
                <a:solidFill>
                  <a:srgbClr val="000000"/>
                </a:solidFill>
                <a:latin typeface="Arial,Bold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istenza di reali attivita’ in cui i diversi apporti si integrano. Entrambe fanno parte delle molte correnti del movimento educativo del Cooperativ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-152280"/>
            <a:ext cx="9144000" cy="7044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METACOGN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Riflessione, controllo di come si apprende, mettendo in evidenza le proprie mappe cognitive, le proprie strategie di controllo, le proprie valutazioni su come si e’ appreso. (C.Cornoldi 1995, D.Ianes 199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studenti metacognitivi, apprendono di piu’, sono maggiormente disposti al lavoro di gruppo, superando anche la lezione frontale, attraverso un controllo reciproco di come apprendere, di quali strategie utilizzare e di come verificare insieme i risul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 fa della metacognizione quan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b"/>
                </a:solidFill>
                <a:latin typeface="Arial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ragiona su CIÒ che è stato appr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b"/>
                </a:solidFill>
                <a:latin typeface="Arial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ragiona su COME è avvenuto l</a:t>
            </a:r>
            <a:r>
              <a:rPr b="0" lang="it-IT" sz="2000" spc="-1" strike="noStrike">
                <a:solidFill>
                  <a:srgbClr val="000000"/>
                </a:solidFill>
                <a:latin typeface="Arial,Bold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b"/>
                </a:solidFill>
                <a:latin typeface="Arial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fissano delle mete da raggiung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b"/>
                </a:solidFill>
                <a:latin typeface="Arial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discute sulle strategie piu’ adatte per raggiungere lo sc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b"/>
                </a:solidFill>
                <a:latin typeface="Arial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cercano le ragioni del proprio insuc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cercano procedure per gestire lo stress e per resistere 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ustrazio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72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TRATEGIE METODOLOGICHE E DIDATTICHE UTILIZZ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scuola pri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coraggiare l’apprendimento collaborativ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“Imparare non 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olo un processo individuale: la dimensione comunit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ell’apprendimento svolge un ruolo significativ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favorire le attività in piccolo gruppo e il tutoraggi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romuovere la consapevolezza del proprio modo di appre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l fine di imparare ad apprendere”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rivilegiare l’apprendimento esperienziale e laboratoriale  “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favorire l’operatività e allo stesso  tempo  il dialogo, la rifle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u quello che si fa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ollecitare le conoscenze precedenti per introdurre nuo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rgomenti e creare aspettat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viluppare processi di autovalutazione e autocontrollo d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roprie strategie di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are  mediatori  didattici che facilitano l’apprendimen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immagini, schemi, mappe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lt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861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7924680" y="38088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29628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TRATEGIE METODOLOGICHE E DIDATT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scuola second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coraggiare l’apprendimento collaborativo favorendo le attività in pic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grupp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edisporre azioni di  tutoragg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ostenere e promuovere un approccio strategico nello studio utilizzan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ediatori  didattici  facilitanti l’apprendimento  (immagini, mappe 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segnare l’uso di dispositivi extratestuali per lo studio (titolo, paragraf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mmagini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ollecitare collegamenti fra le nuove informazioni e quelle già acquisite og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olta che si inizia un nuovo argomento di 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muovere inferenze, integrazioni e collegamenti tra le conoscenze e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scip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videre gli obiettivi di un compito in “sotto obiettiv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ffrire anticipatamente schemi grafici relativi all’argomento di studio, 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rientare l’alunno nella discriminazione delle informazioni essenzial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ivilegiare l’apprendimento esperienziale e laboratoriale  “per favor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’operatività e allo stesso  tempo  il dialogo, la riflessione su quello che si fa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viluppare processi di autovalutazione e autocontrollo delle strategi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pprendimento negli alun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lt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861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077320" y="228600"/>
            <a:ext cx="571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TTIVITA’  PROGRAMMATE (scuola second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ttività di recup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ttività di consolidamento e/o di potenz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ttività di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ttività di classi aperte (per piccoli grup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ttività all’esterno dell’ambiente scol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ttività di carattere culturale, formativo, socializz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153280" y="45720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6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MENTI E MISURE DI TIPO COMPENSATIVO E DISPENS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ciascuna materia/ambito di studio vanno individuati gli strumenti compensativi, dispensativi utili a sostenere l’allievo nell’apprendi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i="1" lang="it-IT" sz="2400" spc="-1" strike="noStrike">
                <a:solidFill>
                  <a:srgbClr val="cc0000"/>
                </a:solidFill>
                <a:latin typeface="Arial"/>
              </a:rPr>
              <a:t>L’obiettivo di tali misure e strumenti è quello di mettere l’alunno con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DSA </a:t>
            </a:r>
            <a:r>
              <a:rPr b="1" i="1" lang="it-IT" sz="2400" spc="-1" strike="noStrike">
                <a:solidFill>
                  <a:srgbClr val="cc0000"/>
                </a:solidFill>
                <a:latin typeface="Arial"/>
              </a:rPr>
              <a:t>sullo stesso piano dei compagni, senza violare l’imparzialità” </a:t>
            </a:r>
            <a:r>
              <a:rPr b="1" i="1" lang="it-IT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G. Stell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ella scuola secondaria, vanno individuati con particolare cura gli strumenti compensativi e dispensativi che sara’ possibile assicurare anche in sede di Esame di St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liminarmente all’Esame di Stato della scuola secondaria di II grado, tali strumenti vanno indicati (Circolari/documenti di indicazione Esami di Stato) dal Consiglio di Classe , che dovrà esattamente indicare modalità, tempi e sistema valutativo previ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872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oltà a salire le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434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l_fi" descr=""/>
          <p:cNvPicPr/>
          <p:nvPr/>
        </p:nvPicPr>
        <p:blipFill>
          <a:blip r:embed="rId1"/>
          <a:stretch/>
        </p:blipFill>
        <p:spPr>
          <a:xfrm>
            <a:off x="3448080" y="380880"/>
            <a:ext cx="2038320" cy="1905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625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t3692996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1181160" cy="1619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434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il_fi" descr=""/>
          <p:cNvPicPr/>
          <p:nvPr/>
        </p:nvPicPr>
        <p:blipFill>
          <a:blip r:embed="rId3"/>
          <a:stretch/>
        </p:blipFill>
        <p:spPr>
          <a:xfrm>
            <a:off x="2895480" y="3505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2670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il_fi" descr=""/>
          <p:cNvPicPr/>
          <p:nvPr/>
        </p:nvPicPr>
        <p:blipFill>
          <a:blip r:embed="rId4"/>
          <a:srcRect l="35850" t="24483" r="37107" b="26822"/>
          <a:stretch/>
        </p:blipFill>
        <p:spPr>
          <a:xfrm>
            <a:off x="4572000" y="4343400"/>
            <a:ext cx="647640" cy="800280"/>
          </a:xfrm>
          <a:prstGeom prst="rect">
            <a:avLst/>
          </a:prstGeom>
          <a:ln w="0">
            <a:noFill/>
          </a:ln>
        </p:spPr>
      </p:pic>
      <p:pic>
        <p:nvPicPr>
          <p:cNvPr id="173" name="il_fi" descr=""/>
          <p:cNvPicPr/>
          <p:nvPr/>
        </p:nvPicPr>
        <p:blipFill>
          <a:blip r:embed="rId5"/>
          <a:stretch/>
        </p:blipFill>
        <p:spPr>
          <a:xfrm>
            <a:off x="5943600" y="3581280"/>
            <a:ext cx="16765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7543800" y="4419720"/>
          <a:ext cx="1247760" cy="876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3800" y="4419720"/>
                    <a:ext cx="12477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67640" y="5546880"/>
            <a:ext cx="7841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vento di tipo                          Intervento di tipo                              Intervento di 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i)abilitativo                            compensativo                            dispens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514600"/>
            <a:ext cx="6098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5146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25146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0484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OTENZIARE     ABILITARE     COMPENSARE    DISPENS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otenziare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rricchire ed ampliare il curricolo naturale attraverso il curricolo scol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bilitare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rafforzare ed incrementare il funzionamento di abilità poco efficienti attraverso interventi speci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ens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tabilire una situazione di equilibrio attraverso l’impiego di mezzi e criteri per supplire a funzioni carenti in funzione dell’auton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pensare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sonerare, secondo vari gradi, dallo svolgimento di specifiche attività caratterizzate da particolar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ncoli esecu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IUR Linee guida, 2011, pag.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Si afferma che la famigl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ndivide la linee elaborate nella documentazione dei percorsi didattici individualizzati e personalizzati ed è chiamata a formalizzare con la scuola un patto educativo/formativo che preveda l’autorizzazione a tutti i docenti del Consiglio di Classe – nel rispetto della privacy e della riservatezza del caso – ad applicare ogni strumento compensativo e le strategie dispensative ritenute idonee, previste dalla normativa vigente, tenuto conto delle risorse disponibi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-20520"/>
            <a:ext cx="9144000" cy="673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Chi decide gli strumenti compensativi?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eam dei docenti o il Consiglio di clas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quisita la diagnosi specialistica di DS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po avere analizzato l’ entità del disturbo, le difficoltà, i punti di forza dell’allievo con DS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definisce quali strategie didattiche mettere in atto e quali strumenti utilizzare … confrontandosi con la famiglia , lo studente e, dove è possibile, con i tecnici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1560" y="19051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1560" y="39625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81560" y="2743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4"/>
                </a:solidFill>
                <a:latin typeface="Arial"/>
              </a:rPr>
              <a:t>STRUMENTI COMPENSATIVI E DISPENS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recisa che l’insegnante è direttamente coinvolto nella loro ide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creazione, poichè conosce 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dividua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gli studenti ed ha di conseguenz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posizione privilegiata nell’individuare 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corsi di apprendimento più idonei per ognuno</a:t>
            </a:r>
            <a:r>
              <a:rPr b="1" lang="it-IT" sz="2400" spc="-1" strike="noStrike">
                <a:solidFill>
                  <a:srgbClr val="000000"/>
                </a:solidFill>
                <a:latin typeface="Dax-Light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librati in base alle effettive necess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il_fi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400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694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venti Compensativ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attuano in fasi più avanzate del percorso scolastico, nelle situazioni in cui il disturbo è più severo, poco modificabile e non è più ragionevole ipotizzare un ripristino della funzione, per cui è necessario individuare modalità più efficaci per “vicariarl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un esplicito rapporto funzionale con l’abilità defic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facilitano il compito dal punto di vista cog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438280" y="2666880"/>
          <a:ext cx="396252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66880"/>
                    <a:ext cx="396252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BD14565_" descr=""/>
          <p:cNvPicPr/>
          <p:nvPr/>
        </p:nvPicPr>
        <p:blipFill>
          <a:blip r:embed="rId3"/>
          <a:stretch/>
        </p:blipFill>
        <p:spPr>
          <a:xfrm>
            <a:off x="152280" y="5867280"/>
            <a:ext cx="171720" cy="171720"/>
          </a:xfrm>
          <a:prstGeom prst="rect">
            <a:avLst/>
          </a:prstGeom>
          <a:ln w="0">
            <a:noFill/>
          </a:ln>
        </p:spPr>
      </p:pic>
      <p:pic>
        <p:nvPicPr>
          <p:cNvPr id="196" name="BD14565_" descr=""/>
          <p:cNvPicPr/>
          <p:nvPr/>
        </p:nvPicPr>
        <p:blipFill>
          <a:blip r:embed="rId4"/>
          <a:stretch/>
        </p:blipFill>
        <p:spPr>
          <a:xfrm>
            <a:off x="152280" y="6248520"/>
            <a:ext cx="17172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4798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713520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tecnologie compens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Aspetti determinanti per il successo della compens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cidere, caso per caso, se una compensazione di ti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cnologico sia utile e conveni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vantaggi devono superare gl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convenienti (personali, ambientali, motivazionali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alorizzare strategie di accesso vis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gliere gli elementi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rto visivo utile alla comprensione, presenti nella pagina digita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rto iconografico, formattazione tipografica che indica la funzione e 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uolo gerarchico delle varie porzioni di testo (es: titoli con caratteri e posi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versi, posizione domande…), riuscire a mantenere il segn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urare un’efficace presa in carico educativa per lo svilupp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competenze compensati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corso di addestramento specific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rendere l’alunno  abile all’uso, consapevole e a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il_fi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066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7072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menti dispens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I DSA non consentendo appieno il raggiungimento dell’automatismo, determinano maggiore lentezza e affaticabilità nello svolgimento delle prove e nello studio in generale.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ò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sere importante, di conseguenza, dispensare lo studente da alcune tipologie di comp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In generale le dispensazioni vorranno essere rivolte alla quantità del compito piuttosto che alla qualità dello st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specifiche condizioni e, in particolare, nelle fasi superio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scolarizzazione: è importante non limitarsi a ridurre la quantità de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iti, ma considerare anche le modalità di svolgimento, garantend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unque obiettivi minimi di appr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Non può essere concessa dispensa da nessuna disciplina curricol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0226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1066680"/>
          <a:ext cx="9144000" cy="5786640"/>
        </p:xfrm>
        <a:graphic>
          <a:graphicData uri="http://schemas.openxmlformats.org/drawingml/2006/table">
            <a:tbl>
              <a:tblPr/>
              <a:tblGrid>
                <a:gridCol w="3581280"/>
                <a:gridCol w="556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tteristiche/ambi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Interventi di compenso/dispens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ezza ed errori nella scrittura cui può conseguire difficoltà nella comprensione del test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. Evitare l’uso del cor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Evitare di far leggere a voce 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it-IT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Incentivare  a scuola e a casa l’utilizzo del PC con sintesi vocale, di cassette con testi registrati, di dizionari digitalizzati;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Sintetizzare i concetti con l’uso di riassunti, schemi, mappe concettuali eventualmente anche favorendo l’uso di software specifici dotati di sintesi vocale in grado di leggere anche le lingue strani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it-IT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Leggere le consegne degli esercizi e/o fornire durante le verifiche prove su supporto digitalizz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lle esercitazioni e verifiche ridurre il numero degli esercizi senza modificare gli obiettiv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</a:t>
                      </a:r>
                      <a:r>
                        <a:rPr b="0" lang="it-IT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Dare più te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Privilegiare le verifiche orali consentendo l’uso di schemi, parole chiave, mappe nelle interrogazioni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0" y="0"/>
            <a:ext cx="9144000" cy="1069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lificazione di strumenti compensativi e dispensa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267080" y="2327400"/>
            <a:ext cx="16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0"/>
          <a:ext cx="9144000" cy="7216920"/>
        </p:xfrm>
        <a:graphic>
          <a:graphicData uri="http://schemas.openxmlformats.org/drawingml/2006/table">
            <a:tbl>
              <a:tblPr/>
              <a:tblGrid>
                <a:gridCol w="3429000"/>
                <a:gridCol w="5715000"/>
              </a:tblGrid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oltà nei processi di automatizzazione della letto-scrittura che rende difficile o impossibile eseguire contemporaneamente due procedimenti (ascoltare e scrivere, ascoltare e seguire un tes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Evitare di far prendere appunti, ricopiare testi o espressioni matematiche, ecc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In caso di necessità di integrazione dei libri di testo fornire appunti su supporto digitalizzato o cartaceo stampato (preferibilmente Arial 14/16 con 1/5 0 2 di interlinea, doppia spaziatura fra parole,no ad affollamento visivo), consentire l’uso del registrato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Evitare la scrittura sotto dettatura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Modificare opportunamente le prove di ascolto delle lingue strani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5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oltà nel ricordare le categorizzazioni, i nomi dei tempi verbali, delle strutture grammaticali italiane e straniere, dei complemen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Tabella dei mesi, dell’alfabeto e dei vari caratt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Favorire l’uso di sch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Privilegiare l’uso corretto delle forme grammaticali sulle acquisizioni teoriche delle ste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Utilizzare per le verifiche domande a scelta multipla e/o esercitazioni a completamento (cloz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703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0"/>
          <a:ext cx="9144000" cy="6939000"/>
        </p:xfrm>
        <a:graphic>
          <a:graphicData uri="http://schemas.openxmlformats.org/drawingml/2006/table">
            <a:tbl>
              <a:tblPr/>
              <a:tblGrid>
                <a:gridCol w="3733920"/>
                <a:gridCol w="5410080"/>
              </a:tblGrid>
              <a:tr h="57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alculia</a:t>
                      </a:r>
                      <a:r>
                        <a:rPr b="1" lang="it-IT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,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oltà nella memorizzazione/recupero delle tabelline, formule, sequenze, procedure, forme grammaticali e nel recuperare rapidamente nella memoria nozioni già acquisite e comprese cui consegue difficoltà e lentezza espositiva nell’ interrogazione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Incentivare l’uso, schemi, parole, chiave, mappe durante l’interrogazione, anche eventualmente su supporto digitalizzato, per facilitare il recupero delle informazioni e migliorare l’esposizione verbale che tende ad essere sca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Evitare di chiedere lo studio mnemonico (es. poesie) e nozionistico in genere, tenendo presente che vi è una notevole difficoltà nel ricordare nomi, termini tecnici e definizioni (es. materie scientifiche, diritto, ec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it-IT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onsentire l’uso della tavola pitagorica, della calcolatrice, linea dei numeri,  ausili visivi e tabelle per il calcolo mentale tavole, tabelle e formulari delle varie materie scientifiche durante le esercitazioni e/o verifiche, schemi e mappe durante le interroga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tilizzare prove a scelta multip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oltà nell’espressione della lingua scritt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Favorire l’uso di schemi/guida testu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Utilizzo del registr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L’insegnante che scr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327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0"/>
          <a:ext cx="9144000" cy="7088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ortografia e disgrafia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Evitare di far scrivere in cor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Evitare det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Valutare il contenuto e non la fo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Favorire l’utilizzo di programmi di video scrittura con correttore ortograf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e stancabilità e lunghezza dei tempi di recuper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Fissare interrogazioni e compi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ogrammati evitando di variare l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vitare la sovrapposizione di compiti e interrogazioni delle varie mate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Elasticità nella richiesta di esecuzione dei compiti a casa (istituire un produttivo rapporto fra famiglia/scuo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Controllo nella gestione del diar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oltà nella lingua stranier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Privilegiare la forma or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Utilizzare prove a scelta multipla e/o a complet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abelle per ricordare (tabelle della memoria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deguata riduzione del carico di lavor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Insistere su potenziamento parole ad alta frequenza piuttosto che su parole rar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 Valutare contenuto e non errori ortograf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ISURE DISPENSATIVE (scuola pri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ell’ambito delle varie discipline l’alunno viene dispens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la presentazione contemporanea dei quattro caratteri (n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rime fasi dell’apprendiment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la lettura ad alta vo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 prendere appun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i tempi standard (dalla consegna delle prove scritte in temp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aggiori di quelli previsti per gli alunni senza DS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 copiare dalla lavagn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la dettatura di testi/o appun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 un eccesivo carico di compi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lo studio mnemonico delle tabelli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lo studio della lingua straniera in forma scrit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077320" y="457200"/>
            <a:ext cx="571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7099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e cos’e’il Piano Didattico Personalizza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iano =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gramma- progetto- strate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dattico =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opo: migliorare l’efficacia e soprattutto l’efficienza          dell’apprendimento dell’alunno, diminuendo i tempi di studio e il dispendio di energ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sonalizzato =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o di metodologie, tempi e strumenti   diversi nella progettazione del lavoro della classe, coerenti con le capacita’, i ritmi e i tempi di sviluppo degli alu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TRUMENTI COMPENSATIVI (scuola pri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alunno usufruirà dei seguenti strumenti compensativi nelle aree disciplina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abelle, formulari, procedure specifiche … sintesi, schemi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appe elaborati dai doc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alcolatrice o computer con foglio di calcolo e stamp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con videoscrittura, correttore ortografico, stampante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sorse audio (cassette registrate,  sintesi vocale, audiolibri, lib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arlati, libri digitali 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idattici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avola pitago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con sintetizzatore v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.B. -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i ricorda che  le strutture grafiche (tipo diagrammi e/o mappe) possono servire ai ragazzi con DSA per trasporre e organizzare le loro conoscen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153280" y="15228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ISURE DISPENSATIVE (scuola second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ell’ambito delle varie discipline l’alunno viene dispens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la lettura ad alta vo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 prendere appun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i tempi standard (dalla consegna delle prove scritte in temp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aggiori di quelli previsti per gli alunni senza DS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 copiare dalla lavagn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la dettatura di testi/o appun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 un eccessivo carico di compiti a c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la effettuazione di più prove valutative in tempi ravvicina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lo studio mnemonico di formule, tabelle; definizioni al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 es.: sostituzione della scrittura con linguaggio verbale e/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con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153280" y="45720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TRUMENTI COMPENS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alunno usufruirà dei seguenti strumenti compensativ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ibri digit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abelle, formulari, procedure specifiche , sintesi, schemi 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ap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alcolatrice o computer con foglio di calcolo e stamp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con videoscrittura, correttore ortografico, stampante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sorse audio (registrazioni,  sintesi vocale, audiolibri, libri parla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…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idattici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con sintetizzatore v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vocabolario multimed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.B. -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i ricorda che  le strutture grafiche (tipo diagrammi e/o mappe) possono servire ai ragazzi con DSA per trasporre e organizzare le loro conoscen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153280" y="457200"/>
            <a:ext cx="571680" cy="542880"/>
          </a:xfrm>
          <a:prstGeom prst="rect">
            <a:avLst/>
          </a:prstGeom>
          <a:ln w="0">
            <a:noFill/>
          </a:ln>
        </p:spPr>
      </p:pic>
      <p:pic>
        <p:nvPicPr>
          <p:cNvPr id="218" name="AID carta int proposte" descr=""/>
          <p:cNvPicPr/>
          <p:nvPr/>
        </p:nvPicPr>
        <p:blipFill>
          <a:blip r:embed="rId2"/>
          <a:srcRect l="2259" t="0" r="72157" b="0"/>
          <a:stretch/>
        </p:blipFill>
        <p:spPr>
          <a:xfrm>
            <a:off x="8153280" y="457200"/>
            <a:ext cx="571680" cy="542880"/>
          </a:xfrm>
          <a:prstGeom prst="rect">
            <a:avLst/>
          </a:prstGeom>
          <a:ln w="0">
            <a:noFill/>
          </a:ln>
        </p:spPr>
      </p:pic>
      <p:pic>
        <p:nvPicPr>
          <p:cNvPr id="219" name="AID carta int proposte" descr=""/>
          <p:cNvPicPr/>
          <p:nvPr/>
        </p:nvPicPr>
        <p:blipFill>
          <a:blip r:embed="rId3"/>
          <a:srcRect l="2259" t="0" r="72157" b="0"/>
          <a:stretch/>
        </p:blipFill>
        <p:spPr>
          <a:xfrm>
            <a:off x="8153280" y="457200"/>
            <a:ext cx="57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9143640" cy="8634240"/>
            <a:chOff x="0" y="0"/>
            <a:chExt cx="9143640" cy="8634240"/>
          </a:xfrm>
        </p:grpSpPr>
        <p:grpSp>
          <p:nvGrpSpPr>
            <p:cNvPr id="221" name=""/>
            <p:cNvGrpSpPr/>
            <p:nvPr/>
          </p:nvGrpSpPr>
          <p:grpSpPr>
            <a:xfrm>
              <a:off x="6480" y="3960"/>
              <a:ext cx="9129600" cy="8625960"/>
              <a:chOff x="6480" y="3960"/>
              <a:chExt cx="9129600" cy="86259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6480" y="3960"/>
                <a:ext cx="4564440" cy="8625960"/>
                <a:chOff x="6480" y="3960"/>
                <a:chExt cx="4564440" cy="86259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9480" y="3960"/>
                  <a:ext cx="4437720" cy="862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480" y="3960"/>
                  <a:ext cx="4564440" cy="862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571280" y="3960"/>
                <a:ext cx="4564800" cy="8625960"/>
                <a:chOff x="4571280" y="3960"/>
                <a:chExt cx="4564800" cy="8625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635000" y="3960"/>
                  <a:ext cx="4437360" cy="862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571280" y="3960"/>
                  <a:ext cx="4564800" cy="862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" name=""/>
            <p:cNvSpPr/>
            <p:nvPr/>
          </p:nvSpPr>
          <p:spPr>
            <a:xfrm>
              <a:off x="0" y="0"/>
              <a:ext cx="9143640" cy="8634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RITERI E MODALITA’ DI VERIFICA E 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output036" descr=""/>
          <p:cNvPicPr/>
          <p:nvPr/>
        </p:nvPicPr>
        <p:blipFill>
          <a:blip r:embed="rId1"/>
          <a:srcRect l="8331" t="5557" r="8331" b="11114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950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centi dovran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 PD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dalità attraverso le quali intendono valutare i livelli di apprendi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lle diverse discipline o ambiti di 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lo stesso temp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vrà ess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clusa la valutazi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gli aspetti che costituiscono il disturbo st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egge 170/2010 … parla di valutazione degli apprendimenti , assicurando che “ agli studenti con DSA sono garantite, durante il percorso di istruzione e di formazione scolastica e universitaria, adeguate forme di verifica e di valutazione, anche per qua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e gli esami di Stato …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l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olgimento degli esami conclusivi della scuola seconda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 parte degli alunni con DSA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deve tenere conto della normativa relativa a “Istruzioni e modalità organizzative e operative per lo svolgimento degli esami di sta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727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Valorizzazione del processo di apprendimento dell’alunno, considerando i suoi punti di forza, i miglioramenti ed i progressi compiuti, incoraggiandolo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studente verrà valutat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 base ai progressi acquisiti, all’impegno, a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oscenze apprese e alle strategie opera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La valutazione è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sona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personali i livelli di partenza (all’alunno è richiesto il raggiungimento almeno degli obiettivi minimi raggiunti attraverso percorsi personalizzat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cuola valuta 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tributo che l’alun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ha dato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el q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singolo alunno ha saputo destreggiarsi, 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mmi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ffettuat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non lo stato in esse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TimesNewRomanPS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Oggetto di valutazione è il percorso effettuato e non i livelli di apparten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7324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odalità di verifica/valu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 calibrare in base alle caratteristiche e percorso effettuato dal singolo sog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fferenziare le verifiche, dal punto di vista operativo, in base a eventu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zioni diagnostiche a riguar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lettura del testo della verifica scritta dall’insegnante o da compagno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testo in  formato dig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re opportuni tempi di esecuzione per consentire tempi di riflessione, pa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eventuale gestione dell’an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in alternativa ai tempi, assegnare minor quantità di compiti da svolger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che consentano egualmente di verificare abilità e capa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giudicare, se non come obiettivo specifico univoco, l’ordine o la calligraf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60093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60093"/>
                </a:solidFill>
                <a:latin typeface="TimesNewRomanPSMT"/>
              </a:rPr>
              <a:t>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predisposizione di verifiche scritte accessibili, chiare e s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affollamento vis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251240" y="187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18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003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7166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giudicare i concetti, i pensieri e la loro coerenza, il grado di maturità,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consapevolezza e di conoscenza, sia che essi vengano espressi in for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tradizionali o compensativ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rogazioni/verifiche programmate e non più di una al giorno, né trop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vvicinate nella setti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•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prove orali in compensazione alle prove scritte nella lingua non ma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disporre interrogazioni solo orali per le materie previste solo or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Arial"/>
              </a:rPr>
              <a:t>•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utilizzo di prove strutturate: risposta chiusa – multipla</a:t>
            </a:r>
            <a:r>
              <a:rPr b="1" lang="it-IT" sz="2000" spc="-1" strike="noStrike">
                <a:solidFill>
                  <a:srgbClr val="d60093"/>
                </a:solidFill>
                <a:latin typeface="TimesNewRomanPSMT"/>
              </a:rPr>
              <a:t>,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a comple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•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dalità di presentazione delle verifiche (cartacea – al PC – con softw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cifici …a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• </a:t>
            </a:r>
            <a:r>
              <a:rPr b="1" lang="it-IT" sz="2000" spc="-1" strike="noStrike">
                <a:solidFill>
                  <a:srgbClr val="d60093"/>
                </a:solidFill>
                <a:latin typeface="Arial"/>
              </a:rPr>
              <a:t>uso di mediatori didattici durante le interrogazioni (mappe – schemi – parole chiave - immagi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o di mezzi compensativ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95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per la  valutazione della lingua stranie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Linee guida MIUR, 2011, pag.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ere conto delle difficoltà, considerando più l’orale che 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ri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ffrire l’opportunità di integrare gli scritti con le prove orali per 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rensione (orale e scritta) sarà valorizzata la  capacità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gliere il senso generale del mess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fase di produzione sarà dato più rilievo alla capacità di far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rendere in modo chiaro, anche se non del tutto corr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ammatic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Att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La possibilità di un esonero totale dalla lingua straniera, pur previsto dal DM, è rischiosa poiché causa la perdita della validità del titolo di studio (attestato al posto del diplom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ERI E MODALITÀ DI VERIFICA E 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cuola pri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 concord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rogazioni program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mpensazione con prove orali di compiti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di mediatori didattici durante le prove scritte e o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utazioni più attente ai contenuti che non alla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azione di tempi più lunghi per l’esecuzione di pr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r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e informatizz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077320" y="457200"/>
            <a:ext cx="571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7804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un piano didattico pensato e applicabile per gli alunni con           DSA, nei quali la difficoltà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non e’ nella capacita’ di apprendimento, ma nelle abilita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utilizzare i normali strumenti per accedere all’apprendimento, abilita’ che possono e devono essere supportate, secondo la normativa vigente, per il raggiungimento del successo form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5525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n contrat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ra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docenti, Istituzione Scolastiche, Istituzioni Socio-Sanitarie e famigl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individuare e organizzare un percorso personalizzato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l quale devono essere definiti i supporti compensativi e dispensativi che possono portare alla realizzazione del successo scolastico degli apprend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5525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D14710_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6858000" cy="228600"/>
          </a:xfrm>
          <a:prstGeom prst="rect">
            <a:avLst/>
          </a:prstGeom>
          <a:ln w="0">
            <a:noFill/>
          </a:ln>
        </p:spPr>
      </p:pic>
      <p:pic>
        <p:nvPicPr>
          <p:cNvPr id="62" name="j0115834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63" name="j0115834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237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0989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077320" y="45720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RITERI E MODALITA’ DI VERIFICA E VALUT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Scuola second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N.B. validi anche in sede di es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i concord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verifiche orali programma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compensazione con prove orali di compiti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uso di mediatori didattici durante le prove scritte e orali   (map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entali, mappe cognitive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valutazioni più attente alle conoscenze a alle competenze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nalisi, sintesi e collegamento con eventuali  elabor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ersonali, piuttosto che alla correttezza for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prove informatizz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valutazione dei progressi in itin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0226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7528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-228600"/>
            <a:ext cx="91440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O CON LA FAMI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145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slide-111-728" descr=""/>
          <p:cNvPicPr/>
          <p:nvPr/>
        </p:nvPicPr>
        <p:blipFill>
          <a:blip r:embed="rId1"/>
          <a:srcRect l="0" t="68611" r="0" b="0"/>
          <a:stretch/>
        </p:blipFill>
        <p:spPr>
          <a:xfrm>
            <a:off x="1523880" y="609480"/>
            <a:ext cx="6096240" cy="3200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3352680"/>
            <a:ext cx="9144000" cy="3751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struiamo una rete i cui fili siano strettamente annodati nel rispetto delle reciproche compet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e’ le famiglie acquisiscano fiducia nel ruolo della scuola, costruiamo legami significativi, comunicando ai genitori i progressi (anche minimi) rilevabili solo in un continuo monitoraggio del processo di apprendimento di ogni stu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60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 protagonisti del processo devono potersi applicare al raggiungimento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biettivi comuni e condivis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secondo modalità integrate, evitando fraintendimenti, dispersione di forze, contraddittorietà, improvvisazi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tevole supporto psicologico per le famiglie: far comprendere che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’ possibile costruire un progetto scolastico e di vi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successo (es.: possibilità di continuare gli studi, d’intraprendere un percorso lavorativo gratificante …, nonostante le difficolta’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team_building_id4684821_size450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3276720" y="2514600"/>
            <a:ext cx="2471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mic Sans MS"/>
              </a:rPr>
              <a:t>Il PDP, </a:t>
            </a:r>
            <a:r>
              <a:rPr b="1" lang="it-IT" sz="2400" spc="-1" strike="noStrike" u="sng">
                <a:solidFill>
                  <a:srgbClr val="cc0000"/>
                </a:solidFill>
                <a:uFillTx/>
                <a:latin typeface="Comic Sans MS"/>
              </a:rPr>
              <a:t>deve essere consegnato alle famiglie</a:t>
            </a:r>
            <a:r>
              <a:rPr b="1" lang="it-IT" sz="2400" spc="-1" strike="noStrike">
                <a:solidFill>
                  <a:srgbClr val="cc0000"/>
                </a:solidFill>
                <a:latin typeface="Comic Sans MS"/>
              </a:rPr>
              <a:t>, anche per l’attivazione di sinergie tra l’azione della scuola, della famiglia e…dell’allievo (in eta’ adeguata) per consentirgli di sviluppare piena consapevolezza delle proprie peculiari modalità di “funzionamento” , per renderlo parte attiva nel processo di apprendimento , per dargli la percezione di possedere la capacità di poter raggiungere un obiettivo ed essere in grado di svolgere un comp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7166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cordare strategie con i genitori (e lo studente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Controllare sul diario che siano stati riportati i compiti per le lezioni success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e che abbia il materiale necessario quotidian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Aiutarlo ad organizzare il materiale scolastico (raccolta di fotocopie, ta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della memoria, schemi, trascrizione al computer di appunti di compagni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insegn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Ridurre la quantita’ dei compiti a casa ad es.: assegnare un numero minor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esercizi (e’ piu’ importante la qualità/significativita’ che la quantita’…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Considerare quali altri compiti sono stati dati da altri insegnanti per evitare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sovraccarico di lavo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0484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0484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484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7594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Condividere non solo le modalita’ su come assegnare i compiti (fotocopi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nastri registrati, ecc.), ma anche gli strumenti con cui il lavoro puo’ ess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realizzato (strumenti informatici, mappe schemi, Power Point,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Calendarizzare i tempi di studio e programmare le interrogazioni e le verifich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(scadenze, no a sovrapposizioni e sovraccarichi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Predisporre o aiutarlo a preparare riassunti, mappe, schemi, tabelle, in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cartacea anche utilizando uno scanner (leggibili!) e vari programmi informa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preferibilmente leggibili da una sintesi vocale per ridurre il caricodel materi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da leggere e per memorizzare meglio (memoria vis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Lasciare la possibilita’ di potere controllare i compiti sul registro di classe o 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sito web della scuola per permettere (a tutti) di controllare agevolmente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spiegazioni ed i lavori assegnati dagli insegnanti, in caso si dimentichi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9966ff"/>
                </a:solidFill>
                <a:latin typeface="Arial"/>
              </a:rPr>
              <a:t>scriverli tu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Favorire la peer education per fare in modo che lo studente abbia un compagno che abita vicino a lui che possa eventualmente chiarirgli i compiti assegn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ATTO CON LA FAMIGLIA (scuola pri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i concord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compiti a casa (riduzione, distribuzione settimanale del ca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i lavoro, modalità di     presentazione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modalità di aiuto: chi, come, per quanto tempo, per q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ttività/discipline segue il   bambino nello stud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gli strumenti compensativi utilizzati a c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le interrog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077320" y="457200"/>
            <a:ext cx="571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71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ATTO CON LA FAMIGLIA E CON L’ALUN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scuola second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i concord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zione del carico di studio individuale  a cas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organizzazione di un piano di studio settimanale co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zione giornaliera del carico di lav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modalità di aiuto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hi, come, per quanto tempo, per q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ttivita’/discipline chi segue l’alunno nello stud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gli strumenti compensativi utilizzati a casa  (audio: registrazion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udiolibri,…)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trumenti informatici (videoscrittura con corre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rtografico, sintesi vocale, calcolatrice o computer con fogl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alcolo,…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verifiche sia orali che scritte. Le verifiche orali dovr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essere privilegi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l patto con la famiglia e con l’alunno deve essere costantemente arricchito dalla ricerca della condivisione delle strategie e dalla fiducia nella possibilità di perseguire il successo formativo (a tal fine sono molto utili i rilevamenti oggettivi dei progressi in itinere)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077320" y="457200"/>
            <a:ext cx="571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9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irma del PDP e legge sulla 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Alla stesura del PDP deve far seguito il contatto con la famiglia, alla quale sarà proposta la firma del docu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l’apposizione della firma la famiglia deve essere consapevole che autorizza la scuola ad utilizzare tutti gli strumenti indicati per il raggiungimento del successo scolastico dell’alunno e che si impegna a procurarglieli e farglieli usa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A seconda della gravità del problema il trattamento differenziato sarà più o meno evidente, ma comunque non occulta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o deve essere chiarito fin dall’iniz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981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Se la famiglia non vuole che siano rese palesi le difficoltà dello studente o insiste perché non si riveli alla classe la condizione del figlio, lo deve dichiarare ed essere consapevole delle conseguen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fiutando l’adozione delle misure indicate nel PDP per il successo scolastico si assume anche la responsabilità di un suo eventuale insucces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La diagnosi di DSA rientra nei dati sensibili secondo la normativa sulla privacy quindi, senza l’autorizzazione della famiglia, non si può rendere noto ad altri (compresi i compagni) questa condizione, a meno che non sia lo stesso alunno a far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necessario altresì informare tutti i docenti coinvolti della situazione, perché agiscano adeguatamente, vincolati all’obbligo della riservatez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512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PDP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P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838080"/>
          <a:ext cx="9144000" cy="6053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0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no didattico personalizz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</a:rPr>
                        <a:t>Divers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alità, tempi, strumenti, quantità nell’attuazione della programmazione comune della clas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no Educativo individualizz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</a:rPr>
                        <a:t>Differenz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uti e competenze specific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 104/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cuola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segnanti di classe                                        Dirigente scol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                                 --------------------------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Gen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ecnico competente (se ha partecipato alla stesura del docu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----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077320" y="457200"/>
            <a:ext cx="571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4798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74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cuola seco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ocenti del Consiglio di Classe                      Dirigente Scol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-------                       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Genitori                                                              Stu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-------                        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ecnico competent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se ha partecipato)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AID carta int proposte" descr=""/>
          <p:cNvPicPr/>
          <p:nvPr/>
        </p:nvPicPr>
        <p:blipFill>
          <a:blip r:embed="rId1"/>
          <a:srcRect l="2259" t="0" r="72157" b="0"/>
          <a:stretch/>
        </p:blipFill>
        <p:spPr>
          <a:xfrm>
            <a:off x="8077320" y="457200"/>
            <a:ext cx="571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278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ZIE PER L’ATT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124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il_fi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5238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0" y="464832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00080"/>
                </a:solidFill>
                <a:latin typeface="Comic Sans MS"/>
              </a:rPr>
              <a:t>GRAZIE PER L’ATTENZI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48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0484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cetto di personalizz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gge 53/2003 (riforma Mora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cazioni per il Curriculum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la scuola è chiamata a realizzare percorsi formativi semp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più  rispondenti alle inclinazioni personali degli studenti nella prospettiva di valorizzare gli aspetti peculiari della personalità di ognu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07:26:52Z</dcterms:created>
  <dc:creator>scuola</dc:creator>
  <dc:description/>
  <dc:language>en-US</dc:language>
  <cp:lastModifiedBy>scuola</cp:lastModifiedBy>
  <dcterms:modified xsi:type="dcterms:W3CDTF">2012-11-04T22:05:10Z</dcterms:modified>
  <cp:revision>55</cp:revision>
  <dc:subject/>
  <dc:title>Presentazione di PowerPoint</dc:title>
</cp:coreProperties>
</file>