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1BE9-B651-4669-A15C-ECAC9251D33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2331-9431-43B1-8031-12B1A9C332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2983-A01C-45CA-99B0-EFE616AA88A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A3C-B93E-4566-9EDC-789347A5FC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A08-31A0-4236-82AF-E15DD500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F2D-0833-422C-9CAC-30022BD1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573-3247-4CBD-889E-2C7F7FB6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95C-2BA5-4575-B5FB-7759FF0B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D6D-1906-496A-A709-A637335B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38B-961A-4925-958B-055B1FFB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77C-297D-4830-9199-6DD27F4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B1B-81BF-4B09-9D9B-57B7D254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37F-9DD0-440B-80CA-A1DA11D8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FE1-1DD6-4C5A-B15C-8865354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593-BB45-40A7-B63C-5751E74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CE6-678B-4F06-99DA-193B092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8469-844F-4C4D-B4D9-E3D79A914DE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42960" y="500040"/>
          <a:ext cx="8143920" cy="6147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0040"/>
                    <a:ext cx="814392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4"/>
          <p:cNvSpPr/>
          <p:nvPr/>
        </p:nvSpPr>
        <p:spPr>
          <a:xfrm>
            <a:off x="310824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895480" y="5832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819520" y="5832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720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04920"/>
            <a:ext cx="8686800" cy="62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PERCORSI – LA  SPIEGAZI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Utilizzo di organizzatori anticipa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- Sintesi iniziali, parole chiave e significative, sequenza delle informazioni con domande guida, domande poste all’inizio, immagini di riferim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intesi inizi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“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Luna è l’unico satellite della Terra: dista da noi circa 384.000 Km: il suo volume è la quarantanovesima parte di quello della Terra; la gravità è circa la sesta parte di quella esistente sulla terra. La superficie lunare presenta migliaia di crateri, montagne ed estensioni pianeggianti dette mari. La mancanza di atmosfera e la temperatura troppo elevata , nella parte illuminata o troppo rigida, nella parte in ombra, vi rendono impossibile ogni forma di vita”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Termini significativ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una, satellite, Terra, volume, gravità, superficie, atmosfera, tempera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efinizione di Lun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“Come viene definita la Luna in relazione alla Terra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escrizione delle sue caratteristich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: “Qual è la distanza dalla terrà? Qual è il volume e la gravità della Luna? Come sono la sua superficie e la sua temperatura?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1983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Calibri"/>
              </a:rPr>
              <a:t>Utilizzo dello schema concettuale per la selezione delle informazion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755640" y="1670040"/>
            <a:ext cx="3292560" cy="2378160"/>
          </a:xfrm>
          <a:prstGeom prst="rect">
            <a:avLst/>
          </a:prstGeom>
          <a:ln w="0">
            <a:noFill/>
          </a:ln>
        </p:spPr>
      </p:pic>
      <p:sp>
        <p:nvSpPr>
          <p:cNvPr id="86" name="Line 4"/>
          <p:cNvSpPr/>
          <p:nvPr/>
        </p:nvSpPr>
        <p:spPr>
          <a:xfrm>
            <a:off x="396252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5"/>
          <p:cNvSpPr/>
          <p:nvPr/>
        </p:nvSpPr>
        <p:spPr>
          <a:xfrm>
            <a:off x="57150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334120" y="3200400"/>
            <a:ext cx="182880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azio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5715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334120" y="4267080"/>
            <a:ext cx="1828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7150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410080" y="5257800"/>
            <a:ext cx="182880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ffet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2438280" y="563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2438280" y="403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66680" y="64771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149400"/>
            <a:ext cx="8534520" cy="61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3. Memorizzazione e tempi nel recupero di informazioni lessicali e sequenz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iuti didattico – operativ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. Esercizio e ripasso distribu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1792440" y="2565360"/>
            <a:ext cx="537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sellaDiTesto 1"/>
          <p:cNvSpPr/>
          <p:nvPr/>
        </p:nvSpPr>
        <p:spPr>
          <a:xfrm>
            <a:off x="569880" y="620640"/>
            <a:ext cx="8353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b. Schede di termini, schede di sintesi con tabelle di algoritmi e sequenze oper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. Aiuti nelle interrogazioni, verifiche e compiti in classe.: tempi, utilizzo di item di riconoscimento, limitazione delle domande a scelte multiple, gestione quant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. Gestione del carico di lavoro relativo allo studio: selezione e verifiche / interrogazioni program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tangolo 2"/>
          <p:cNvSpPr/>
          <p:nvPr/>
        </p:nvSpPr>
        <p:spPr>
          <a:xfrm>
            <a:off x="3449160" y="6370560"/>
            <a:ext cx="22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457200"/>
            <a:ext cx="830556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La tavola dei termini: defini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atellite: corpo celeste oscuro orbitante intorno ad un pian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ianeta: corpo celeste che descrive orbite ellittiche intorno al Sole, privo di luce propria ma luminoso perché riflette la luce sol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Volume: estensione di un corpo nelle tre dimensioni; altezza, larghezza, lunghez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vità: forza che attira i corpi al centro del pian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tmosfera: involucro gassoso che circonda un corpo celeste. L’atmosfera terrestre è costituita da 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ltri termini del testo, non compr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 sintesi registrata e/o scri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’insegnante costruisce con la classe la sintesi dell’argomento la quale può essere sia scritta che registrata. Quest’ultima, assieme allo schema completato e alla tavola dei termini, diventerà materiale per lo stu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99880" y="6431040"/>
            <a:ext cx="22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1"/>
          <p:cNvSpPr/>
          <p:nvPr/>
        </p:nvSpPr>
        <p:spPr>
          <a:xfrm>
            <a:off x="214200" y="117360"/>
            <a:ext cx="871560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LA QUANTITÁ DEGLI ESERCIZI È UNA VARIABILE SIGNIFICATIVA PER L’APPRENDIMENTO E LA VALUTAZI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(vedi anche per compit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Privilegiare l’apprendimento distribu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ttenzione al livello di significatività e complessità dell’eserciz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ignificativ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n relazione all’obiettivo (conoscenza, applicazione, comprensione, analisi, valutazion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Compless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(conoscenza, applicazione, comprensione, analisi, valutazione, abilità riproduttive/convergenti, divergent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–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asellaDiTesto 1"/>
          <p:cNvSpPr/>
          <p:nvPr/>
        </p:nvSpPr>
        <p:spPr>
          <a:xfrm>
            <a:off x="357120" y="0"/>
            <a:ext cx="8786880" cy="71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STRUZIONE DI PROVE PER TU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esenza di item di diversa complessit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dinamento degli item per livello di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compless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ignificativ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rispetto all’obiet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s. complessità rispetto al contenuto (memorizzare, conoscere, comprendere, analizzare, valutare) e significatività («…mi dà più informazioni per la valutazione…?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ipologie degli 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/F, riconoscimento fra opzioni, completamento con termini sono facilitanti, scelta multipla da ridurre, risposta aperta coinvolge la strutturazione del discorso e la selezione delle inform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binazione fra tipolo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– Darf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asellaDiTesto 1"/>
          <p:cNvSpPr/>
          <p:nvPr/>
        </p:nvSpPr>
        <p:spPr>
          <a:xfrm>
            <a:off x="500040" y="357120"/>
            <a:ext cx="842976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LE  SPECIFICITÁ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DE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Calibri"/>
              </a:rPr>
              <a:t>DISTURB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piè di pagin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504d"/>
                </a:solidFill>
                <a:latin typeface="Comic Sans MS"/>
              </a:rPr>
              <a:t>DISTURBO DI LE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sturbo si associa a difficoltà di memorizzazione (verbi…) e termini specif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quantità incide sulla compren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esenza di più interrogazioni in un periodo breve annulla il beneficio della program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iene utilizzato maggiormente l’ascolto: difficoltà a prendere appu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gistrazione di sintesi selet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mande guida per la sele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hemi guida per la sinte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avole di termi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udiolibr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ccia in giù 5"/>
          <p:cNvSpPr/>
          <p:nvPr/>
        </p:nvSpPr>
        <p:spPr>
          <a:xfrm>
            <a:off x="4500720" y="40719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504d"/>
                </a:solidFill>
                <a:latin typeface="Comic Sans MS"/>
              </a:rPr>
              <a:t>DISTURBO DI SCRI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RTOGRA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cadute sulla prima e sulla seconda ling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ttenzione all’o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ivilegiare il contenuto e le interroga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sciare tempo per la revi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 correttore ortograf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RAFO-MOTO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ssociazione con difficoltà visuo-spaz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ntezza esecuti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lo stampato maiusc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vocal nei casi di maggior difficol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sellaDiTesto 1"/>
          <p:cNvSpPr/>
          <p:nvPr/>
        </p:nvSpPr>
        <p:spPr>
          <a:xfrm>
            <a:off x="285840" y="571680"/>
            <a:ext cx="857232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O, DIFFICOLTÁ, DISABILITÁ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URB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ermine inglese “learning disabilities” è stato tradotto in italiano, dopo un’indagine tra clinici e ricercatori italiani del settore, nel termine “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erimento legislativo legga 170/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ICOLT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spression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ol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apprendimento viene utilizzata per indicare una forma non grave (quindi che non soddisfa i criteri clinici per il Disturbo) di ritardo sul piano dell'apprendi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c’è un riferimento legisl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BILIT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il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dizione deficitaria in relazione a problemi neurologici, intellettivi, socio-relazional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erimento legislativo legge 104 19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~1\PC\IMPOST~1\Temp\~DEST\Scansione0011.bmp"/>
          <p:cNvPicPr/>
          <p:nvPr/>
        </p:nvPicPr>
        <p:blipFill>
          <a:blip r:embed="rId1"/>
          <a:stretch/>
        </p:blipFill>
        <p:spPr>
          <a:xfrm>
            <a:off x="1066680" y="152280"/>
            <a:ext cx="6477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asellaDiTesto 1"/>
          <p:cNvSpPr/>
          <p:nvPr/>
        </p:nvSpPr>
        <p:spPr>
          <a:xfrm>
            <a:off x="500040" y="500040"/>
            <a:ext cx="835812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504d"/>
                </a:solidFill>
                <a:latin typeface="Comic Sans MS"/>
              </a:rPr>
              <a:t>DISTURBO NUMERICO E DI CALCO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à elaborativa fatic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dute sulle abilità sequenziali: procedure, algori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dute percettive sui segni  +   x  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zione, Memorizzazione e recupero di termini specifi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ezza nel processo di simbolizzazione e di relazioni matematic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sso associato a problemi visuo-spaziali: ricadute sui processi organizzativi e di rappresentazione spazio-temporali: ricaduta in geometria, geografia, tecn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omic Sans MS"/>
              </a:rPr>
              <a:t>Utilizzo di strumenti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avole di sintesi, schede guida, tavole di termini e regole, calcolatrice, associazione spiegazione e immagini, mappe visive con riferimenti e non troppo comple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e del tem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e della quantità di lavoro: scelta selettiva degli eserci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ccia in giù 2"/>
          <p:cNvSpPr/>
          <p:nvPr/>
        </p:nvSpPr>
        <p:spPr>
          <a:xfrm>
            <a:off x="4226040" y="38736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57200" y="457200"/>
            <a:ext cx="8381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Aspetto emotivo e autoeffica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cezione di competenza, autovalutazione, ruolo nel gruppo class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971800"/>
            <a:ext cx="17524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perien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00400" y="3733920"/>
            <a:ext cx="175248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00400" y="2286000"/>
            <a:ext cx="175248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257800" y="2286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ttenzione orientata verso strategie alternative con le quali si fa fronte all’insucce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334120" y="3809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41008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ttenzione orientata alla passivit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’insuccesso viene attribuito a proprietà negative interne come la mancanza di ABILIT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GENERALI ( non capisco, non sono intelligente): si definisce il processo di percdezione di scarsa efficacia e di autosvalutazione che conducono verso aspettative di nuovi insuccessi, al blocco motivazionale  e alla passivit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8288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18288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82880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8288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piè di pagina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504d"/>
                </a:solidFill>
                <a:latin typeface="Calibri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62080" y="649440"/>
            <a:ext cx="876276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A.VV.  (2004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umenti compensativi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d.Libriliberi, Firen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iancardi A., Milano G.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Quando un bambino non sa leggere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zzoli,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, Fornasa W. (2003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bilità differenti. Processi educativi, co-educazione e    percorsi delle differenz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geli,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, (2001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orsi didattici per la comprensione del tes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Vannini Editrice, Bres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, Lancini A. (2004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orsi didattici per la soluzione dei problemi aritmetic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Vannini Editrice, Bres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 ( 2005) ( a cura di ) 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ché è così difficile imparare?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Vannini Editrice, Bres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eghini R. (2006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lla qualità dell’integrazione all’inclusione,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Vannini Editrice, Bres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edeghini R. et al  (2011), (a cura di).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 L’educazione inclusiva. Culture e pratiche nei contesti educativi e scolastici:una prospettiva psicopedagogica.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ngeli Editore: Mil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in E.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testa ben fat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Raffaello Cortina Editore, Mil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nac D. (2008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ario di scuola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ilano: Feltrinell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ntecorvo C. ( acura di), (1999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ale di psicologia dell’educ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Il Mulino, Bolog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lla G.  ( a cura di), (1996),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disless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Milano, Angeli.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2357280" y="5979960"/>
            <a:ext cx="4572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-   Bren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omic Sans MS"/>
              </a:rPr>
              <a:t>DEFINIZIONE DI DISTURBO SPECIFICO DI APPRENDIM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dizion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eurobiologic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complessa di origine costituziona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sturb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ttoria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letto-scrittura e calcolo) che si manifesta i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senz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i disturbi neurologici, cognitivi, sensoriali e relazionali importanti e primari, nonostante il bambino abbia ricevuto normali opportunità scolastiche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Roberto Medeghini,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PROCESSI DI APPRENDIMENTO E IL LORO IMPATTO CON UN DISTURBO SPECIFI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sellaDiTesto 1"/>
          <p:cNvSpPr/>
          <p:nvPr/>
        </p:nvSpPr>
        <p:spPr>
          <a:xfrm>
            <a:off x="357120" y="214200"/>
            <a:ext cx="85726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(da  Le Linee Gui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li insegnanti possono “riappropriarsi” di competenze educativo-didattiche anche nell’ambito dei DSA, laddove lo spostamento del baricentro in ambito clinico aveva invece portato sempre più a delegare a specialisti esterni funzioni proprie della profess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viene sempre più necessario fare appello alle competenze psicopedagogiche dei docenti ‘curricolari’ per affrontare il problema, che non può più essere delegato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tout court a specialisti ester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appena il caso di ricordare che nel profilo professionale del docente sono ricomprese, oltre alle competenze disciplinari, anche competenze psicopedagogiche (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Cfr. art. 27 CCNL). G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rumenti metodologici per interventi di carattere didattico fanno parte, infatti, dello “strumentario” di base che è patrimonio di conoscenza e di abilità di ciascun docente. Tuttavia, è pur vero che la competenza psicopedagogica, in tal caso, deve poter essere aggiornata e approfondi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–  Bren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sellaDiTesto 1"/>
          <p:cNvSpPr/>
          <p:nvPr/>
        </p:nvSpPr>
        <p:spPr>
          <a:xfrm>
            <a:off x="468360" y="476280"/>
            <a:ext cx="842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rco 7"/>
          <p:cNvSpPr/>
          <p:nvPr/>
        </p:nvSpPr>
        <p:spPr>
          <a:xfrm>
            <a:off x="1979640" y="1886040"/>
            <a:ext cx="3600360" cy="3055680"/>
          </a:xfrm>
          <a:custGeom>
            <a:avLst/>
            <a:gdLst/>
            <a:ahLst/>
            <a:rect l="l" t="t" r="r" b="b"/>
            <a:pathLst>
              <a:path stroke="0" w="3600450" h="3055938">
                <a:moveTo>
                  <a:pt x="3598344" y="1601856"/>
                </a:moveTo>
                <a:cubicBezTo>
                  <a:pt x="3550775" y="2435818"/>
                  <a:pt x="2723311" y="3082950"/>
                  <a:pt x="1740149" y="3055087"/>
                </a:cubicBezTo>
                <a:cubicBezTo>
                  <a:pt x="738814" y="3026709"/>
                  <a:pt x="-42563" y="2309909"/>
                  <a:pt x="1762" y="1460369"/>
                </a:cubicBezTo>
                <a:cubicBezTo>
                  <a:pt x="45318" y="625565"/>
                  <a:pt x="870896" y="-24699"/>
                  <a:pt x="1854955" y="706"/>
                </a:cubicBezTo>
                <a:cubicBezTo>
                  <a:pt x="2855576" y="26538"/>
                  <a:pt x="3639168" y="740278"/>
                  <a:pt x="3598999" y="1589279"/>
                </a:cubicBezTo>
                <a:lnTo>
                  <a:pt x="1800225" y="1527969"/>
                </a:lnTo>
                <a:lnTo>
                  <a:pt x="3598344" y="1601856"/>
                </a:lnTo>
                <a:close/>
              </a:path>
              <a:path fill="none" w="3600450" h="3055938">
                <a:moveTo>
                  <a:pt x="3598344" y="1601856"/>
                </a:moveTo>
                <a:cubicBezTo>
                  <a:pt x="3550775" y="2435818"/>
                  <a:pt x="2723311" y="3082950"/>
                  <a:pt x="1740149" y="3055087"/>
                </a:cubicBezTo>
                <a:cubicBezTo>
                  <a:pt x="738814" y="3026709"/>
                  <a:pt x="-42563" y="2309909"/>
                  <a:pt x="1762" y="1460369"/>
                </a:cubicBezTo>
                <a:cubicBezTo>
                  <a:pt x="45318" y="625565"/>
                  <a:pt x="870896" y="-24699"/>
                  <a:pt x="1854955" y="706"/>
                </a:cubicBezTo>
                <a:cubicBezTo>
                  <a:pt x="2855576" y="26538"/>
                  <a:pt x="3639168" y="740278"/>
                  <a:pt x="3598999" y="1589279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rco 8"/>
          <p:cNvSpPr/>
          <p:nvPr/>
        </p:nvSpPr>
        <p:spPr>
          <a:xfrm>
            <a:off x="4233960" y="1886040"/>
            <a:ext cx="3651120" cy="3055680"/>
          </a:xfrm>
          <a:custGeom>
            <a:avLst/>
            <a:gdLst/>
            <a:ahLst/>
            <a:rect l="l" t="t" r="r" b="b"/>
            <a:pathLst>
              <a:path stroke="0" w="3651250" h="3055938">
                <a:moveTo>
                  <a:pt x="3639301" y="1353436"/>
                </a:moveTo>
                <a:cubicBezTo>
                  <a:pt x="3757245" y="2211982"/>
                  <a:pt x="3001688" y="2981469"/>
                  <a:pt x="1972481" y="3050987"/>
                </a:cubicBezTo>
                <a:cubicBezTo>
                  <a:pt x="991844" y="3117224"/>
                  <a:pt x="124866" y="2521179"/>
                  <a:pt x="12044" y="1703192"/>
                </a:cubicBezTo>
                <a:cubicBezTo>
                  <a:pt x="-106377" y="844611"/>
                  <a:pt x="648909" y="74791"/>
                  <a:pt x="1678186" y="4991"/>
                </a:cubicBezTo>
                <a:cubicBezTo>
                  <a:pt x="2658703" y="-61503"/>
                  <a:pt x="3525856" y="534191"/>
                  <a:pt x="3639111" y="1352056"/>
                </a:cubicBezTo>
                <a:lnTo>
                  <a:pt x="1825625" y="1527969"/>
                </a:lnTo>
                <a:lnTo>
                  <a:pt x="3639301" y="1353436"/>
                </a:lnTo>
                <a:close/>
              </a:path>
              <a:path fill="none" w="3651250" h="3055938">
                <a:moveTo>
                  <a:pt x="3639301" y="1353436"/>
                </a:moveTo>
                <a:cubicBezTo>
                  <a:pt x="3757245" y="2211982"/>
                  <a:pt x="3001688" y="2981469"/>
                  <a:pt x="1972481" y="3050987"/>
                </a:cubicBezTo>
                <a:cubicBezTo>
                  <a:pt x="991844" y="3117224"/>
                  <a:pt x="124866" y="2521179"/>
                  <a:pt x="12044" y="1703192"/>
                </a:cubicBezTo>
                <a:cubicBezTo>
                  <a:pt x="-106377" y="844611"/>
                  <a:pt x="648909" y="74791"/>
                  <a:pt x="1678186" y="4991"/>
                </a:cubicBezTo>
                <a:cubicBezTo>
                  <a:pt x="2658703" y="-61503"/>
                  <a:pt x="3525856" y="534191"/>
                  <a:pt x="3639111" y="1352056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rco 11"/>
          <p:cNvSpPr/>
          <p:nvPr/>
        </p:nvSpPr>
        <p:spPr>
          <a:xfrm>
            <a:off x="1225440" y="1093680"/>
            <a:ext cx="7201080" cy="4927680"/>
          </a:xfrm>
          <a:custGeom>
            <a:avLst/>
            <a:gdLst/>
            <a:ahLst/>
            <a:rect l="l" t="t" r="r" b="b"/>
            <a:pathLst>
              <a:path stroke="0" w="7200900" h="4927600">
                <a:moveTo>
                  <a:pt x="7165818" y="2120698"/>
                </a:moveTo>
                <a:cubicBezTo>
                  <a:pt x="7457295" y="3539047"/>
                  <a:pt x="5926048" y="4827950"/>
                  <a:pt x="3837505" y="4922254"/>
                </a:cubicBezTo>
                <a:cubicBezTo>
                  <a:pt x="1956910" y="5007168"/>
                  <a:pt x="298845" y="4085279"/>
                  <a:pt x="35359" y="2808248"/>
                </a:cubicBezTo>
                <a:cubicBezTo>
                  <a:pt x="-257321" y="1389729"/>
                  <a:pt x="1273531" y="100085"/>
                  <a:pt x="3362451" y="5387"/>
                </a:cubicBezTo>
                <a:cubicBezTo>
                  <a:pt x="5242613" y="-79847"/>
                  <a:pt x="6900802" y="841344"/>
                  <a:pt x="7165262" y="2118003"/>
                </a:cubicBezTo>
                <a:lnTo>
                  <a:pt x="3600450" y="2463800"/>
                </a:lnTo>
                <a:lnTo>
                  <a:pt x="7165818" y="2120698"/>
                </a:lnTo>
                <a:close/>
              </a:path>
              <a:path fill="none" w="7200900" h="4927600">
                <a:moveTo>
                  <a:pt x="7165818" y="2120698"/>
                </a:moveTo>
                <a:cubicBezTo>
                  <a:pt x="7457295" y="3539047"/>
                  <a:pt x="5926048" y="4827950"/>
                  <a:pt x="3837505" y="4922254"/>
                </a:cubicBezTo>
                <a:cubicBezTo>
                  <a:pt x="1956910" y="5007168"/>
                  <a:pt x="298845" y="4085279"/>
                  <a:pt x="35359" y="2808248"/>
                </a:cubicBezTo>
                <a:cubicBezTo>
                  <a:pt x="-257321" y="1389729"/>
                  <a:pt x="1273531" y="100085"/>
                  <a:pt x="3362451" y="5387"/>
                </a:cubicBezTo>
                <a:cubicBezTo>
                  <a:pt x="5242613" y="-79847"/>
                  <a:pt x="6900802" y="841344"/>
                  <a:pt x="7165262" y="21180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12"/>
          <p:cNvSpPr/>
          <p:nvPr/>
        </p:nvSpPr>
        <p:spPr>
          <a:xfrm>
            <a:off x="2563200" y="27558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segn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13"/>
          <p:cNvSpPr/>
          <p:nvPr/>
        </p:nvSpPr>
        <p:spPr>
          <a:xfrm>
            <a:off x="5867280" y="27766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un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asellaDiTesto 14"/>
          <p:cNvSpPr/>
          <p:nvPr/>
        </p:nvSpPr>
        <p:spPr>
          <a:xfrm>
            <a:off x="3197160" y="519588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segnate/Alunni/Contesto cla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25"/>
          <p:cNvSpPr/>
          <p:nvPr/>
        </p:nvSpPr>
        <p:spPr>
          <a:xfrm>
            <a:off x="4861080" y="2492280"/>
            <a:ext cx="4572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Z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tangolo 2"/>
          <p:cNvSpPr/>
          <p:nvPr/>
        </p:nvSpPr>
        <p:spPr>
          <a:xfrm>
            <a:off x="3848760" y="6308640"/>
            <a:ext cx="211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oberto Medeghini –  Bren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1"/>
          <p:cNvSpPr/>
          <p:nvPr/>
        </p:nvSpPr>
        <p:spPr>
          <a:xfrm>
            <a:off x="122544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STE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bilità automatiche e processi controll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1312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TOMAT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incons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atten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guidati dallo stim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capacità di funzionamento illimi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rtano un basso consumo di risors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5080" y="1676160"/>
            <a:ext cx="381312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ROLL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consapev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edono atten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guidati dal concet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limitata capacità di funzion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rtano un alto dispendio di risors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sellaDiTesto 6"/>
          <p:cNvSpPr/>
          <p:nvPr/>
        </p:nvSpPr>
        <p:spPr>
          <a:xfrm>
            <a:off x="2571840" y="6357960"/>
            <a:ext cx="45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Roberto Medeghini – Breno 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RICAD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1214280"/>
            <a:ext cx="4038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locità di elabor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locità accesso lessicale e lessico specif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emoria a breve termine sequenziale, Working memory, Velocità di recup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ganizzazione spazio-temporale; velocità e qualità esecu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ffatic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tten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mpi di prestazione dilat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ccesso di informaz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adute sulla comprensione orale e scri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ccia in giù 4"/>
          <p:cNvSpPr/>
          <p:nvPr/>
        </p:nvSpPr>
        <p:spPr>
          <a:xfrm>
            <a:off x="6215040" y="4000680"/>
            <a:ext cx="78588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tangolo 5"/>
          <p:cNvSpPr/>
          <p:nvPr/>
        </p:nvSpPr>
        <p:spPr>
          <a:xfrm>
            <a:off x="2866680" y="628668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77920" y="189000"/>
            <a:ext cx="8458200" cy="67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La gestione del carico cogn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1. Ancoraggio cognitivo e Tenuta att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ico di lavoro e del t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uti contestu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stione carico elaborativ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à e complessità),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o temporale delle unità di lavor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definire sequenze accompagnate da tavole di sintesi, schede guida, tavole di termini e regole, calcolatrice…),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duzione dell’ambiguità e visualizzazione di concett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emi come flow chart, istogramma, mappa; immagini come disegno, fumetto, fotografia, clip audio-vide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2. Tempi di elabor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ze, quantità e tempo fra sequenze inform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uti didattico – organizzativi. Riferimento a nuclei concettuali e utilizzo di organizzatori anticipati. Sovrapposizioni e ridondanze da evitare. Tempi di stabilizzazione fra insiemi di informazioni. Sintesi registrate o scritte da utilizz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berto Medeghini - Breno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8:40:09Z</dcterms:created>
  <dc:creator>roberto</dc:creator>
  <dc:description/>
  <dc:language>en-US</dc:language>
  <cp:lastModifiedBy>roberto</cp:lastModifiedBy>
  <dcterms:modified xsi:type="dcterms:W3CDTF">2012-10-17T08:10:56Z</dcterms:modified>
  <cp:revision>11</cp:revision>
  <dc:subject/>
  <dc:title>Presentazione standard di PowerPoint</dc:title>
</cp:coreProperties>
</file>