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3B91-DD7B-409D-9582-404B735BC12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2E4A-4FC8-45EB-B2C8-7A14D12D879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0F79-C997-4C22-861B-C267C2D6FF6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FC6C-BA63-490C-B080-D6A465FFA9C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92A-0CEF-488E-BE0E-EB24483F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EFB-4ADE-4BA2-B306-633B31B9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8414-9615-4E37-86D9-7F33D6EA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3DA-76D0-4F64-8904-9BF9A76B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014E-1DCA-4757-BF34-A5C66E01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8D3-C70C-4E82-B7CE-C83837AC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7C8-F268-455F-97E4-B1DE5600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2E4-828E-43ED-95FE-6C78D5FA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8D9-3D09-410C-89D8-5DB6245B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EB0-E3D1-4D9E-9459-7D6452F8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19E-79EC-46E8-AD8F-52D6E556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0E2-D748-49FB-9D70-98972358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F612-A20C-458D-A886-5B3B4BC2AAA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42960" y="500040"/>
          <a:ext cx="8143920" cy="6147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00040"/>
                    <a:ext cx="8143920" cy="61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4"/>
          <p:cNvSpPr/>
          <p:nvPr/>
        </p:nvSpPr>
        <p:spPr>
          <a:xfrm>
            <a:off x="3108240" y="430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895480" y="583236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819520" y="5832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0492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4920" y="304920"/>
            <a:ext cx="8686800" cy="62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PERCORSI – LA  SPIEGAZI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Utilizzo di organizzatori anticipati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- Sintesi iniziali, parole chiave e significative, sequenza delle informazioni con domande guida, domande poste all’inizio, immagini di riferimen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Sintesi inizi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“  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Luna è l’unico satellite della Terra: dista da noi circa 384.000 Km: il suo volume è la quarantanovesima parte di quello della Terra; la gravità è circa la sesta parte di quella esistente sulla terra. La superficie lunare presenta migliaia di crateri, montagne ed estensioni pianeggianti dette mari. La mancanza di atmosfera e la temperatura troppo elevata , nella parte illuminata o troppo rigida, nella parte in ombra, vi rendono impossibile ogni forma di vita”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Termini significativ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una, satellite, Terra, volume, gravità, superficie, atmosfera, tempera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Definizione di Luna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: “Come viene definita la Luna in relazione alla Terra?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Descrizione delle sue caratteristiche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: “Qual è la distanza dalla terrà? Qual è il volume e la gravità della Luna? Come sono la sua superficie e la sua temperatura?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berto Medeghini -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68360" y="1983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b050"/>
                </a:solidFill>
                <a:latin typeface="Calibri"/>
              </a:rPr>
              <a:t>Utilizzo dello schema concettuale per la selezione delle informazion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Rectangle 3" descr=""/>
          <p:cNvPicPr/>
          <p:nvPr/>
        </p:nvPicPr>
        <p:blipFill>
          <a:blip r:embed="rId1"/>
          <a:stretch/>
        </p:blipFill>
        <p:spPr>
          <a:xfrm>
            <a:off x="755640" y="1670040"/>
            <a:ext cx="3292560" cy="2378160"/>
          </a:xfrm>
          <a:prstGeom prst="rect">
            <a:avLst/>
          </a:prstGeom>
          <a:ln w="0">
            <a:noFill/>
          </a:ln>
        </p:spPr>
      </p:pic>
      <p:sp>
        <p:nvSpPr>
          <p:cNvPr id="85" name="Line 4"/>
          <p:cNvSpPr/>
          <p:nvPr/>
        </p:nvSpPr>
        <p:spPr>
          <a:xfrm>
            <a:off x="396252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5"/>
          <p:cNvSpPr/>
          <p:nvPr/>
        </p:nvSpPr>
        <p:spPr>
          <a:xfrm>
            <a:off x="571500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334120" y="3200400"/>
            <a:ext cx="182880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terazio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7"/>
          <p:cNvSpPr/>
          <p:nvPr/>
        </p:nvSpPr>
        <p:spPr>
          <a:xfrm>
            <a:off x="5715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334120" y="4267080"/>
            <a:ext cx="1828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9"/>
          <p:cNvSpPr/>
          <p:nvPr/>
        </p:nvSpPr>
        <p:spPr>
          <a:xfrm>
            <a:off x="571500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5410080" y="5257800"/>
            <a:ext cx="182880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ffet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2438280" y="5638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12"/>
          <p:cNvSpPr/>
          <p:nvPr/>
        </p:nvSpPr>
        <p:spPr>
          <a:xfrm flipV="1">
            <a:off x="2438280" y="403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1066680" y="647712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berto Medeghini -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57200" y="149400"/>
            <a:ext cx="8534520" cy="61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alibri"/>
              </a:rPr>
              <a:t>3. Memorizzazione e tempi nel recupero di informazioni lessicali e sequenz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iuti didattico – operativ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. Esercizio e ripasso distribu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berto Medeghini -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magine 1" descr=""/>
          <p:cNvPicPr/>
          <p:nvPr/>
        </p:nvPicPr>
        <p:blipFill>
          <a:blip r:embed="rId1"/>
          <a:stretch/>
        </p:blipFill>
        <p:spPr>
          <a:xfrm>
            <a:off x="1792440" y="2565360"/>
            <a:ext cx="5373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1"/>
          <p:cNvSpPr/>
          <p:nvPr/>
        </p:nvSpPr>
        <p:spPr>
          <a:xfrm>
            <a:off x="569880" y="620640"/>
            <a:ext cx="835344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b. Schede di termini, schede di sintesi con tabelle di algoritmi e sequenze oper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. Aiuti nelle interrogazioni, verifiche e compiti in classe.: tempi, utilizzo di item di riconoscimento, limitazione delle domande a scelte multiple, gestione quantità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d. Gestione del carico di lavoro relativo allo studio: selezione e verifiche / interrogazioni program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ttangolo 2"/>
          <p:cNvSpPr/>
          <p:nvPr/>
        </p:nvSpPr>
        <p:spPr>
          <a:xfrm>
            <a:off x="3449160" y="6370560"/>
            <a:ext cx="222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berto Medeghini -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3520" y="457200"/>
            <a:ext cx="8305560" cy="57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La tavola dei termini: definizio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Satellite: corpo celeste oscuro orbitante intorno ad un pian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ianeta: corpo celeste che descrive orbite ellittiche intorno al Sole, privo di luce propria ma luminoso perché riflette la luce sol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Volume: estensione di un corpo nelle tre dimensioni; altezza, larghezza, lunghezz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ravità: forza che attira i corpi al centro del pian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tmosfera: involucro gassoso che circonda un corpo celeste. L’atmosfera terrestre è costituita da 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ltri termini del testo, non compre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La sintesi registrata e/o scrit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’insegnante costruisce con la classe la sintesi dell’argomento la quale può essere sia scritta che registrata. Quest’ultima, assieme allo schema completato e alla tavola dei termini, diventerà materiale per lo stud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999880" y="6431040"/>
            <a:ext cx="222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berto Medeghini -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CasellaDiTesto 1"/>
          <p:cNvSpPr/>
          <p:nvPr/>
        </p:nvSpPr>
        <p:spPr>
          <a:xfrm>
            <a:off x="214200" y="117360"/>
            <a:ext cx="8715600" cy="71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LA QUANTITÁ DEGLI ESERCIZI È UNA VARIABILE SIGNIFICATIVA PER L’APPRENDIMENTO E LA VALUTAZI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(vedi anche per compit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Privilegiare l’apprendimento distribu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ttenzione al livello di significatività e complessità dell’eserciz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Significatività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in relazione all’obiettivo (conoscenza, applicazione, comprensione, analisi, valutazione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Complessità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(conoscenza, applicazione, comprensione, analisi, valutazione, abilità riproduttive/convergenti, divergent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berto Medeghini – Darf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1"/>
          <p:cNvSpPr/>
          <p:nvPr/>
        </p:nvSpPr>
        <p:spPr>
          <a:xfrm>
            <a:off x="357120" y="0"/>
            <a:ext cx="8786880" cy="71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COSTRUZIONE DI PROVE PER TUT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resenza di item di diversa complessit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rdinamento degli item per livello di 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complessità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significatività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rispetto all’obiett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s. complessità rispetto al contenuto (memorizzare, conoscere, comprendere, analizzare, valutare) e significatività («…mi dà più informazioni per la valutazione…?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ipologie degli i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/F, riconoscimento fra opzioni, completamento con termini sono facilitanti, scelta multipla da ridurre, risposta aperta coinvolge la strutturazione del discorso e la selezione delle informazio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mbinazione fra tipolog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berto Medeghini – Darf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asellaDiTesto 1"/>
          <p:cNvSpPr/>
          <p:nvPr/>
        </p:nvSpPr>
        <p:spPr>
          <a:xfrm>
            <a:off x="500040" y="357120"/>
            <a:ext cx="8429760" cy="61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Calibri"/>
              </a:rPr>
              <a:t>LE  SPECIFICITÁ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Calibri"/>
              </a:rPr>
              <a:t>DEL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Calibri"/>
              </a:rPr>
              <a:t>DISTURB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egnaposto piè di pagina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Roberto Medeghini, Darf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0504d"/>
                </a:solidFill>
                <a:latin typeface="Comic Sans MS"/>
              </a:rPr>
              <a:t>DISTURBO DI LET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1428840"/>
            <a:ext cx="8358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isturbo si associa a difficoltà di memorizzazione (verbi…) e termini specif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quantità incide sulla comprens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presenza di più interrogazioni in un periodo breve annulla il beneficio della programm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Viene utilizzato maggiormente l’ascolto: difficoltà a prendere appu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egistrazione di sintesi selet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omande guida per la sele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hemi guida per la sinte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avole di termi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udiolibr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ccia in giù 5"/>
          <p:cNvSpPr/>
          <p:nvPr/>
        </p:nvSpPr>
        <p:spPr>
          <a:xfrm>
            <a:off x="4500720" y="4071960"/>
            <a:ext cx="6429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egnaposto piè di pagina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Roberto Medeghini, Darf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0504d"/>
                </a:solidFill>
                <a:latin typeface="Comic Sans MS"/>
              </a:rPr>
              <a:t>DISTURBO DI SCRIT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ORTOGRAF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icadute sulla prima e sulla seconda lingu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ttenzione all’or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ivilegiare il contenuto e le interrogazi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sciare tempo per la revis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Utilizzo del correttore ortografi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RAFO-MOTO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ssociazione con difficoltà visuo-spazi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entezza esecuti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Utilizzo dello stampato maiusc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Utilizzo vocal nei casi di maggior difficol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Roberto Medeghini, Darf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asellaDiTesto 1"/>
          <p:cNvSpPr/>
          <p:nvPr/>
        </p:nvSpPr>
        <p:spPr>
          <a:xfrm>
            <a:off x="285840" y="571680"/>
            <a:ext cx="857232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URBO, DIFFICOLTÁ, DISABILITÁ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URB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termine inglese “learning disabilities” è stato tradotto in italiano, dopo un’indagine tra clinici e ricercatori italiani del settore, nel termine “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urb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erimento legislativo legga 170/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FICOLT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spression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olt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 apprendimento viene utilizzata per indicare una forma non grave (quindi che non soddisfa i criteri clinici per il Disturbo) di ritardo sul piano dell'apprendim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c’è un riferimento legisla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ABILIT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bilit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dizione deficitaria in relazione a problemi neurologici, intellettivi, socio-relazional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erimento legislativo legge 104 199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Roberto Medeghini, Darf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~1\PC\IMPOST~1\Temp\~DEST\Scansione0011.bmp"/>
          <p:cNvPicPr/>
          <p:nvPr/>
        </p:nvPicPr>
        <p:blipFill>
          <a:blip r:embed="rId1"/>
          <a:stretch/>
        </p:blipFill>
        <p:spPr>
          <a:xfrm>
            <a:off x="1066680" y="152280"/>
            <a:ext cx="6477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CasellaDiTesto 1"/>
          <p:cNvSpPr/>
          <p:nvPr/>
        </p:nvSpPr>
        <p:spPr>
          <a:xfrm>
            <a:off x="500040" y="500040"/>
            <a:ext cx="8358120" cy="62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504d"/>
                </a:solidFill>
                <a:latin typeface="Comic Sans MS"/>
              </a:rPr>
              <a:t>DISTURBO NUMERICO E DI CALCO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tà elaborativa fatic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adute sulle abilità sequenziali: procedure, algorit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adute percettive sui segni  +   x   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minazione, Memorizzazione e recupero di termini specific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tezza nel processo di simbolizzazione e di relazioni matematic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adute sui processi organizzativi e spazio-tempor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oltà nella rappresentazione spaziale: ricaduta in geometria, geografia, tecnica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Comic Sans MS"/>
              </a:rPr>
              <a:t>Utilizzo di strumenti: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avole di sintesi, schede guida, tavole di termini e regole, calcolatrice, associazione spiegazione e immagini, mappe visive con riferimenti e non troppo comples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estione del temp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estione della quantità di lavoro: scelta selettiva degli eserci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ccia in giù 2"/>
          <p:cNvSpPr/>
          <p:nvPr/>
        </p:nvSpPr>
        <p:spPr>
          <a:xfrm>
            <a:off x="4214880" y="3429000"/>
            <a:ext cx="484200" cy="500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Roberto Medeghini, Darf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57200" y="457200"/>
            <a:ext cx="83818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alibri"/>
              </a:rPr>
              <a:t>Aspetto emotivo e autoeffica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ercezione di competenza, autovalutazione, ruolo nel gruppo class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62120" y="2971800"/>
            <a:ext cx="175248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sperien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200400" y="3733920"/>
            <a:ext cx="1752480" cy="457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200400" y="2286000"/>
            <a:ext cx="1752480" cy="457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257800" y="22860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ttenzione orientata verso strategie alternative con le quali si fa fronte all’insucces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334120" y="3809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410080" y="3733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ttenzione orientata alla passivit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’insuccesso viene attribuito a proprietà negative interne come la mancanza di ABILIT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GENERALI ( non capisco, non sono intelligente): si definisce il processo di percdezione di scarsa efficacia e di autosvalutazione che conducono verso aspettative di nuovi insuccessi, al blocco motivazionale  e alla passività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18288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182880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1828800" y="243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182880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egnaposto piè di pagina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Roberto Medeghini, Darf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0504d"/>
                </a:solidFill>
                <a:latin typeface="Calibri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62080" y="649440"/>
            <a:ext cx="8762760" cy="60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A.VV.  (2004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umenti compensativi,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d.Libriliberi, Firenz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iancardi A., Milano G. (1999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Quando un bambino non sa leggere,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izzoli, Mila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deghini R., Fornasa W. (2003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bilità differenti. Processi educativi, co-educazione e    percorsi delle differenz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ngeli, Mila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deghini R, (2001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ercorsi didattici per la comprensione del tes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” Vannini Editrice, Bres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deghini R, Lancini A. (2004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ercorsi didattici per la soluzione dei problemi aritmetic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” Vannini Editrice, Bres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deghini R. ( 2005) ( a cura di ) 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erché è così difficile imparare?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Vannini Editrice, Bres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deghini R. (2006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alla qualità dell’integrazione all’inclusione,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Vannini Editrice, Bres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edeghini R. et al  (2011), (a cura di).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 L’educazione inclusiva. Culture e pratiche nei contesti educativi e scolastici:una prospettiva psicopedagogica.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Angeli Editore: Mila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orin E. (1999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a testa ben fat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Raffaello Cortina Editore, Mila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ennac D. (2008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iario di scuola,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ilano: Feltrinell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ontecorvo C. ( acura di), (1999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nuale di psicologia dell’educ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Il Mulino, Bolog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lla G.  ( a cura di), (1996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a dislessi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Milano, Angeli.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ttangolo 3"/>
          <p:cNvSpPr/>
          <p:nvPr/>
        </p:nvSpPr>
        <p:spPr>
          <a:xfrm>
            <a:off x="2357280" y="5979960"/>
            <a:ext cx="4572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Roberto Medeghini -   Darfo 20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omic Sans MS"/>
              </a:rPr>
              <a:t>DEFINIZIONE DI DISTURBO SPECIFICO DI APPRENDIMEN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ndizione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neurobiologic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complessa di origine costituziona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isturbo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ettoria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(letto-scrittura e calcolo) che si manifesta in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ssenz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di disturbi neurologici, cognitivi, sensoriali e relazionali importanti e primari, nonostante il bambino abbia ricevuto normali opportunità scolastiche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Roberto Medeghini, Darf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PROCESSI DI APPRENDIMENTO E IL LORO IMPATTO CON UN DISTURBO SPECIFI</a:t>
            </a: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C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asellaDiTesto 1"/>
          <p:cNvSpPr/>
          <p:nvPr/>
        </p:nvSpPr>
        <p:spPr>
          <a:xfrm>
            <a:off x="357120" y="214200"/>
            <a:ext cx="85726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(da  Le Linee Guid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Gli insegnanti possono “riappropriarsi” di competenze educativo-didattiche anche nell’ambito dei DSA, laddove lo spostamento del baricentro in ambito clinico aveva invece portato sempre più a delegare a specialisti esterni funzioni proprie della profess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iviene sempre più necessario fare appello alle competenze psicopedagogiche dei docenti ‘curricolari’ per affrontare il problema, che non può più essere delegato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tout court a specialisti ester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È appena il caso di ricordare che nel profilo professionale del docente sono ricomprese, oltre alle competenze disciplinari, anche competenze psicopedagogiche (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Cfr. art. 27 CCNL). Gl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trumenti metodologici per interventi di carattere didattico fanno parte, infatti, dello “strumentario” di base che è patrimonio di conoscenza e di abilità di ciascun docente. Tuttavia, è pur vero che la competenza psicopedagogica, in tal caso, deve poter essere aggiornata e approfondita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Roberto Medeghini –  Darfo 20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asellaDiTesto 1"/>
          <p:cNvSpPr/>
          <p:nvPr/>
        </p:nvSpPr>
        <p:spPr>
          <a:xfrm>
            <a:off x="468360" y="476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IST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rco 7"/>
          <p:cNvSpPr/>
          <p:nvPr/>
        </p:nvSpPr>
        <p:spPr>
          <a:xfrm>
            <a:off x="1979640" y="1886040"/>
            <a:ext cx="3600360" cy="3055680"/>
          </a:xfrm>
          <a:custGeom>
            <a:avLst/>
            <a:gdLst/>
            <a:ahLst/>
            <a:rect l="l" t="t" r="r" b="b"/>
            <a:pathLst>
              <a:path stroke="0" w="3600450" h="3055938">
                <a:moveTo>
                  <a:pt x="3598344" y="1601856"/>
                </a:moveTo>
                <a:cubicBezTo>
                  <a:pt x="3550775" y="2435818"/>
                  <a:pt x="2723311" y="3082950"/>
                  <a:pt x="1740149" y="3055087"/>
                </a:cubicBezTo>
                <a:cubicBezTo>
                  <a:pt x="738814" y="3026709"/>
                  <a:pt x="-42563" y="2309909"/>
                  <a:pt x="1762" y="1460369"/>
                </a:cubicBezTo>
                <a:cubicBezTo>
                  <a:pt x="45318" y="625565"/>
                  <a:pt x="870896" y="-24699"/>
                  <a:pt x="1854955" y="706"/>
                </a:cubicBezTo>
                <a:cubicBezTo>
                  <a:pt x="2855576" y="26538"/>
                  <a:pt x="3639168" y="740278"/>
                  <a:pt x="3598999" y="1589279"/>
                </a:cubicBezTo>
                <a:lnTo>
                  <a:pt x="1800225" y="1527969"/>
                </a:lnTo>
                <a:lnTo>
                  <a:pt x="3598344" y="1601856"/>
                </a:lnTo>
                <a:close/>
              </a:path>
              <a:path fill="none" w="3600450" h="3055938">
                <a:moveTo>
                  <a:pt x="3598344" y="1601856"/>
                </a:moveTo>
                <a:cubicBezTo>
                  <a:pt x="3550775" y="2435818"/>
                  <a:pt x="2723311" y="3082950"/>
                  <a:pt x="1740149" y="3055087"/>
                </a:cubicBezTo>
                <a:cubicBezTo>
                  <a:pt x="738814" y="3026709"/>
                  <a:pt x="-42563" y="2309909"/>
                  <a:pt x="1762" y="1460369"/>
                </a:cubicBezTo>
                <a:cubicBezTo>
                  <a:pt x="45318" y="625565"/>
                  <a:pt x="870896" y="-24699"/>
                  <a:pt x="1854955" y="706"/>
                </a:cubicBezTo>
                <a:cubicBezTo>
                  <a:pt x="2855576" y="26538"/>
                  <a:pt x="3639168" y="740278"/>
                  <a:pt x="3598999" y="1589279"/>
                </a:cubicBezTo>
              </a:path>
            </a:pathLst>
          </a:custGeom>
          <a:noFill/>
          <a:ln w="572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rco 8"/>
          <p:cNvSpPr/>
          <p:nvPr/>
        </p:nvSpPr>
        <p:spPr>
          <a:xfrm>
            <a:off x="4233960" y="1886040"/>
            <a:ext cx="3651120" cy="3055680"/>
          </a:xfrm>
          <a:custGeom>
            <a:avLst/>
            <a:gdLst/>
            <a:ahLst/>
            <a:rect l="l" t="t" r="r" b="b"/>
            <a:pathLst>
              <a:path stroke="0" w="3651250" h="3055938">
                <a:moveTo>
                  <a:pt x="3639301" y="1353436"/>
                </a:moveTo>
                <a:cubicBezTo>
                  <a:pt x="3757245" y="2211982"/>
                  <a:pt x="3001688" y="2981469"/>
                  <a:pt x="1972481" y="3050987"/>
                </a:cubicBezTo>
                <a:cubicBezTo>
                  <a:pt x="991844" y="3117224"/>
                  <a:pt x="124866" y="2521179"/>
                  <a:pt x="12044" y="1703192"/>
                </a:cubicBezTo>
                <a:cubicBezTo>
                  <a:pt x="-106377" y="844611"/>
                  <a:pt x="648909" y="74791"/>
                  <a:pt x="1678186" y="4991"/>
                </a:cubicBezTo>
                <a:cubicBezTo>
                  <a:pt x="2658703" y="-61503"/>
                  <a:pt x="3525856" y="534191"/>
                  <a:pt x="3639111" y="1352056"/>
                </a:cubicBezTo>
                <a:lnTo>
                  <a:pt x="1825625" y="1527969"/>
                </a:lnTo>
                <a:lnTo>
                  <a:pt x="3639301" y="1353436"/>
                </a:lnTo>
                <a:close/>
              </a:path>
              <a:path fill="none" w="3651250" h="3055938">
                <a:moveTo>
                  <a:pt x="3639301" y="1353436"/>
                </a:moveTo>
                <a:cubicBezTo>
                  <a:pt x="3757245" y="2211982"/>
                  <a:pt x="3001688" y="2981469"/>
                  <a:pt x="1972481" y="3050987"/>
                </a:cubicBezTo>
                <a:cubicBezTo>
                  <a:pt x="991844" y="3117224"/>
                  <a:pt x="124866" y="2521179"/>
                  <a:pt x="12044" y="1703192"/>
                </a:cubicBezTo>
                <a:cubicBezTo>
                  <a:pt x="-106377" y="844611"/>
                  <a:pt x="648909" y="74791"/>
                  <a:pt x="1678186" y="4991"/>
                </a:cubicBezTo>
                <a:cubicBezTo>
                  <a:pt x="2658703" y="-61503"/>
                  <a:pt x="3525856" y="534191"/>
                  <a:pt x="3639111" y="1352056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rco 11"/>
          <p:cNvSpPr/>
          <p:nvPr/>
        </p:nvSpPr>
        <p:spPr>
          <a:xfrm>
            <a:off x="1225440" y="1093680"/>
            <a:ext cx="7201080" cy="4927680"/>
          </a:xfrm>
          <a:custGeom>
            <a:avLst/>
            <a:gdLst/>
            <a:ahLst/>
            <a:rect l="l" t="t" r="r" b="b"/>
            <a:pathLst>
              <a:path stroke="0" w="7200900" h="4927600">
                <a:moveTo>
                  <a:pt x="7165818" y="2120698"/>
                </a:moveTo>
                <a:cubicBezTo>
                  <a:pt x="7457295" y="3539047"/>
                  <a:pt x="5926048" y="4827950"/>
                  <a:pt x="3837505" y="4922254"/>
                </a:cubicBezTo>
                <a:cubicBezTo>
                  <a:pt x="1956910" y="5007168"/>
                  <a:pt x="298845" y="4085279"/>
                  <a:pt x="35359" y="2808248"/>
                </a:cubicBezTo>
                <a:cubicBezTo>
                  <a:pt x="-257321" y="1389729"/>
                  <a:pt x="1273531" y="100085"/>
                  <a:pt x="3362451" y="5387"/>
                </a:cubicBezTo>
                <a:cubicBezTo>
                  <a:pt x="5242613" y="-79847"/>
                  <a:pt x="6900802" y="841344"/>
                  <a:pt x="7165262" y="2118003"/>
                </a:cubicBezTo>
                <a:lnTo>
                  <a:pt x="3600450" y="2463800"/>
                </a:lnTo>
                <a:lnTo>
                  <a:pt x="7165818" y="2120698"/>
                </a:lnTo>
                <a:close/>
              </a:path>
              <a:path fill="none" w="7200900" h="4927600">
                <a:moveTo>
                  <a:pt x="7165818" y="2120698"/>
                </a:moveTo>
                <a:cubicBezTo>
                  <a:pt x="7457295" y="3539047"/>
                  <a:pt x="5926048" y="4827950"/>
                  <a:pt x="3837505" y="4922254"/>
                </a:cubicBezTo>
                <a:cubicBezTo>
                  <a:pt x="1956910" y="5007168"/>
                  <a:pt x="298845" y="4085279"/>
                  <a:pt x="35359" y="2808248"/>
                </a:cubicBezTo>
                <a:cubicBezTo>
                  <a:pt x="-257321" y="1389729"/>
                  <a:pt x="1273531" y="100085"/>
                  <a:pt x="3362451" y="5387"/>
                </a:cubicBezTo>
                <a:cubicBezTo>
                  <a:pt x="5242613" y="-79847"/>
                  <a:pt x="6900802" y="841344"/>
                  <a:pt x="7165262" y="211800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asellaDiTesto 12"/>
          <p:cNvSpPr/>
          <p:nvPr/>
        </p:nvSpPr>
        <p:spPr>
          <a:xfrm>
            <a:off x="2563200" y="275580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segna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sellaDiTesto 13"/>
          <p:cNvSpPr/>
          <p:nvPr/>
        </p:nvSpPr>
        <p:spPr>
          <a:xfrm>
            <a:off x="5867280" y="27766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un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asellaDiTesto 14"/>
          <p:cNvSpPr/>
          <p:nvPr/>
        </p:nvSpPr>
        <p:spPr>
          <a:xfrm>
            <a:off x="3276720" y="518148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segnanteAlunni-Contesto clas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asellaDiTesto 25"/>
          <p:cNvSpPr/>
          <p:nvPr/>
        </p:nvSpPr>
        <p:spPr>
          <a:xfrm>
            <a:off x="4861080" y="2349360"/>
            <a:ext cx="45720" cy="38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Z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ttangolo 2"/>
          <p:cNvSpPr/>
          <p:nvPr/>
        </p:nvSpPr>
        <p:spPr>
          <a:xfrm>
            <a:off x="3861000" y="6308640"/>
            <a:ext cx="209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Roberto Medeghini –  Darfo 20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bilità automatiche e processi controll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1312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UTOMAT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incons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preatten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guidati dallo stim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capacità di funzionamento illimit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ortano un basso consumo di risors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080" y="1676160"/>
            <a:ext cx="381312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ROLL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consapev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chiedono atten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guidati dal concet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limitata capacità di funziona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ortano un alto dispendio di risors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asellaDiTesto 6"/>
          <p:cNvSpPr/>
          <p:nvPr/>
        </p:nvSpPr>
        <p:spPr>
          <a:xfrm>
            <a:off x="2571840" y="6357960"/>
            <a:ext cx="45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Roberto Medeghini – Darfo 20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RICAD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56760" y="1214280"/>
            <a:ext cx="4038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elocità di elaborazi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elocità accesso lessicale e lessico specif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emoria a breve termine sequenziale, Working memory, velocità di recup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rganizzazione spazio-temporale; velocità e qualità esecu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ffatic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ttenzi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empi di prestazione dilata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ccesso di informazio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icadute sulla comprensione orale e scrit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ccia in giù 4"/>
          <p:cNvSpPr/>
          <p:nvPr/>
        </p:nvSpPr>
        <p:spPr>
          <a:xfrm>
            <a:off x="6215040" y="4000680"/>
            <a:ext cx="785880" cy="71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ttangolo 5"/>
          <p:cNvSpPr/>
          <p:nvPr/>
        </p:nvSpPr>
        <p:spPr>
          <a:xfrm>
            <a:off x="2866320" y="628668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Roberto Medeghini - Darf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77920" y="189000"/>
            <a:ext cx="8458200" cy="67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La gestione del carico cogni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alibri"/>
              </a:rPr>
              <a:t>1. Ancoraggio cognitivo e Tenuta atten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ico di lavoro e del temp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uti contestual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stione carico elaborativ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à e complessità), </a:t>
            </a:r>
            <a:r>
              <a:rPr b="1" i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rollo temporale delle unità di lavor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definire sequenze accompagnate da tavole di sintesi, schede guida, tavole di termini e regole, calcolatrice…), </a:t>
            </a:r>
            <a:r>
              <a:rPr b="1" i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duzione dell’ambiguità e visualizzazione di concetti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hemi come flow chart, istogramma, mappa; immagini come disegno, fumetto, fotografia, clip audio-video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2. Tempi di elaboraz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ze, quantità e tempo fra sequenze informati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uti didattico – organizzativi. Riferimento a nuclei concettuali e utilizzo di organizzatori anticipati. Sovrapposizioni e ridondanze da evitare. Tempi di stabilizzazione fra insiemi di informazioni. Sintesi registrate o scritte da utilizz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berto Medeghini -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3:45:41Z</dcterms:created>
  <dc:creator>roberto</dc:creator>
  <dc:description/>
  <dc:language>en-US</dc:language>
  <cp:lastModifiedBy>roberto</cp:lastModifiedBy>
  <dcterms:modified xsi:type="dcterms:W3CDTF">2012-10-17T08:11:39Z</dcterms:modified>
  <cp:revision>11</cp:revision>
  <dc:subject/>
  <dc:title>Presentazione standard di PowerPoint</dc:title>
</cp:coreProperties>
</file>